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701-A4BC-4D85-A74B-9A9031B1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D84-0876-412B-A46D-AE2FC2F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2FD-3D18-4DE7-BCD2-4BE01273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04A-E71D-46F6-B9F6-4C843401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7DF-3732-4255-A634-88BF4C77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5A9-7765-49EF-909A-1615EE27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9D5-1244-4D37-878E-C96D1E8B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E37-3BAB-4098-8582-91C31E7C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BC4-0CD5-4AEC-AA87-E6DB9DBB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530-5FA5-4022-B321-B60269BB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893-AD12-4F8E-BC67-4CD28FB9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840-340E-4FB3-9400-422F662A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C196-6363-44FC-8ECB-310AC27B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ыполнила ученица 6б класса Гришачева Кам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181080" y="1628640"/>
            <a:ext cx="8425080" cy="21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6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Алгоритмы и исполнител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1873440" cy="17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08720" y="3573360"/>
            <a:ext cx="149256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76360" y="115920"/>
            <a:ext cx="626436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такое алгоритм?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244944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148360" y="3645000"/>
            <a:ext cx="2235240" cy="294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Исполнитель – это человек, группа людей, животное или техническое устройство, способные выполнять заданные ком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0000" y="404640"/>
            <a:ext cx="6842160" cy="930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нители вокруг нас</a:t>
            </a:r>
            <a:endParaRPr b="1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5229360"/>
            <a:ext cx="1643040" cy="2822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1511280" cy="321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67280" y="3860640"/>
            <a:ext cx="1971720" cy="2729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79640" y="1628640"/>
          <a:ext cx="4464000" cy="4257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368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звание фиг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Изоб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Обозначаемый шаг алгоритм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Ов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ачало или кон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араллело -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Ввод или вы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ом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инятие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рямоуголь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Выполнение 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708360" y="2349360"/>
            <a:ext cx="115272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3284640"/>
            <a:ext cx="1152720" cy="4316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4149720"/>
            <a:ext cx="1150920" cy="574560"/>
          </a:xfrm>
          <a:prstGeom prst="flowChartDecision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5013360"/>
            <a:ext cx="1079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03280" y="333360"/>
            <a:ext cx="5905440" cy="932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записи алгоритм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020000" y="4653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9280" y="1484280"/>
            <a:ext cx="1492200" cy="1590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87280" y="1125360"/>
          <a:ext cx="8856720" cy="3883320"/>
        </p:xfrm>
        <a:graphic>
          <a:graphicData uri="http://schemas.openxmlformats.org/drawingml/2006/table">
            <a:tbl>
              <a:tblPr/>
              <a:tblGrid>
                <a:gridCol w="2844720"/>
                <a:gridCol w="2880000"/>
                <a:gridCol w="31320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ветвлени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торени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33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/>
                    </a:solidFill>
                  </a:tcPr>
                </a:tc>
              </a:tr>
            </a:tbl>
          </a:graphicData>
        </a:graphic>
      </p:graphicFrame>
      <p:grpSp>
        <p:nvGrpSpPr>
          <p:cNvPr id="63" name=""/>
          <p:cNvGrpSpPr/>
          <p:nvPr/>
        </p:nvGrpSpPr>
        <p:grpSpPr>
          <a:xfrm>
            <a:off x="611280" y="1916280"/>
            <a:ext cx="2158560" cy="2808000"/>
            <a:chOff x="611280" y="1916280"/>
            <a:chExt cx="2158560" cy="2808000"/>
          </a:xfrm>
        </p:grpSpPr>
        <p:sp>
          <p:nvSpPr>
            <p:cNvPr id="64" name=""/>
            <p:cNvSpPr/>
            <p:nvPr/>
          </p:nvSpPr>
          <p:spPr>
            <a:xfrm>
              <a:off x="881280" y="1916280"/>
              <a:ext cx="1611000" cy="267480"/>
            </a:xfrm>
            <a:prstGeom prst="ellipse">
              <a:avLst/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85520" y="2183760"/>
              <a:ext cx="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1280" y="2450520"/>
              <a:ext cx="2149200" cy="2664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1280" y="2852640"/>
              <a:ext cx="2151000" cy="2653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1280" y="3253320"/>
              <a:ext cx="2153160" cy="26460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1280" y="4055760"/>
              <a:ext cx="2156400" cy="26352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1280" y="3654360"/>
              <a:ext cx="2158560" cy="263880"/>
            </a:xfrm>
            <a:prstGeom prst="rect">
              <a:avLst/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1280" y="4456800"/>
              <a:ext cx="1609200" cy="267480"/>
            </a:xfrm>
            <a:prstGeom prst="ellipse">
              <a:avLst/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85520" y="2718000"/>
              <a:ext cx="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85520" y="311940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5520" y="352008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85520" y="3921120"/>
              <a:ext cx="0" cy="13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85520" y="432252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348000" y="1844640"/>
            <a:ext cx="2520720" cy="2879640"/>
            <a:chOff x="3348000" y="1844640"/>
            <a:chExt cx="2520720" cy="2879640"/>
          </a:xfrm>
        </p:grpSpPr>
        <p:sp>
          <p:nvSpPr>
            <p:cNvPr id="78" name=""/>
            <p:cNvSpPr/>
            <p:nvPr/>
          </p:nvSpPr>
          <p:spPr>
            <a:xfrm>
              <a:off x="4005360" y="1844640"/>
              <a:ext cx="657360" cy="2131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34040" y="20577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95920" y="2270520"/>
              <a:ext cx="876600" cy="425880"/>
            </a:xfrm>
            <a:prstGeom prst="flowChartDecision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676320" y="2484000"/>
              <a:ext cx="21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72880" y="248400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76320" y="2484000"/>
              <a:ext cx="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91760" y="2484000"/>
              <a:ext cx="36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000" y="2697840"/>
              <a:ext cx="657360" cy="21312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63080" y="2697840"/>
              <a:ext cx="657360" cy="21312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91760" y="29113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63080" y="3124080"/>
              <a:ext cx="657360" cy="319680"/>
            </a:xfrm>
            <a:prstGeom prst="flowChartDecision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14800" y="3657600"/>
              <a:ext cx="657720" cy="21384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1360" y="3657600"/>
              <a:ext cx="657360" cy="213840"/>
            </a:xfrm>
            <a:prstGeom prst="rect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553640" y="3337560"/>
              <a:ext cx="21888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11360" y="3337560"/>
              <a:ext cx="32832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43480" y="3871080"/>
              <a:ext cx="36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39680" y="3871080"/>
              <a:ext cx="144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3480" y="4084560"/>
              <a:ext cx="109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91760" y="40845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76320" y="2911320"/>
              <a:ext cx="360" cy="138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675960" y="4297320"/>
              <a:ext cx="131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34040" y="429732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05360" y="4510800"/>
              <a:ext cx="657360" cy="21348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588000" y="1844640"/>
            <a:ext cx="1942920" cy="2881080"/>
            <a:chOff x="6588000" y="1844640"/>
            <a:chExt cx="1942920" cy="2881080"/>
          </a:xfrm>
        </p:grpSpPr>
        <p:sp>
          <p:nvSpPr>
            <p:cNvPr id="102" name=""/>
            <p:cNvSpPr/>
            <p:nvPr/>
          </p:nvSpPr>
          <p:spPr>
            <a:xfrm>
              <a:off x="7106040" y="1844640"/>
              <a:ext cx="1035720" cy="27900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4080" y="212364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76800" y="2255400"/>
              <a:ext cx="1311120" cy="518040"/>
            </a:xfrm>
            <a:prstGeom prst="flowChartDecision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4080" y="2773800"/>
              <a:ext cx="0" cy="1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06040" y="2959920"/>
              <a:ext cx="1035720" cy="2775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4080" y="3239280"/>
              <a:ext cx="0" cy="1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588000" y="342540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588000" y="2216520"/>
              <a:ext cx="0" cy="12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88000" y="221688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71000" y="2494440"/>
              <a:ext cx="0" cy="12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883640" y="3703320"/>
              <a:ext cx="38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65960" y="3982320"/>
              <a:ext cx="1164960" cy="2793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84000" y="3703320"/>
              <a:ext cx="0" cy="27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84000" y="4261680"/>
              <a:ext cx="0" cy="27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4541040"/>
              <a:ext cx="1033920" cy="18468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2484360" y="0"/>
            <a:ext cx="4392720" cy="1090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ипы алгоритм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8592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7280" y="5229360"/>
            <a:ext cx="98460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4360" y="981000"/>
            <a:ext cx="7559640" cy="208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i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8:49:44Z</dcterms:created>
  <dc:creator>Владимир Евсюков</dc:creator>
  <dc:description/>
  <dc:language>en-US</dc:language>
  <cp:lastModifiedBy>Владимир Евсюков</cp:lastModifiedBy>
  <dcterms:modified xsi:type="dcterms:W3CDTF">2009-05-26T09:47:48Z</dcterms:modified>
  <cp:revision>3</cp:revision>
  <dc:subject/>
  <dc:title>Слайд 1</dc:title>
</cp:coreProperties>
</file>