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3373-F57F-41DB-ACF2-D866ABC6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FC91-C3C2-4ADE-81A7-E2055A38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0E14-F4CD-41FE-8829-037B2083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7223-9D49-44FF-86D0-1216A63F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4D11-FD79-44ED-B024-22D47AAD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833E-0952-48C7-8DD7-2073EDDA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FAB2-19A8-46DE-9540-E624333F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B728-C0C7-4BDD-9BA9-0C658893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E71A-99BE-4E68-8542-76F8B9B1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1BEB-769D-46B9-B6C7-25A94058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2E0B-4F60-42BF-8842-7076BC29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1BC1-9099-41D4-8676-7FA662C4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F6DE-7DEB-4E66-8101-CCEA86A7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A1E4-2B9D-4D59-B66A-1C37D026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FC2D-0281-45FF-9DCA-2B67A6B7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965C-DCBC-4A66-BF6D-FBBEC6D4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B23B-AB1B-4225-ADD3-45C97A87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B3F0-245F-4985-AEE2-D5F72FEE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8A7-3252-4DC9-BC81-E1FBC6ED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6D9C-3431-4179-982F-DD46A2F6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B881-7401-44A0-833B-28858C96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5B69-6BBA-4CF1-9977-4A6D4066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8250-47C2-446E-B78B-2BEEF16A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8392-730A-496C-9AEA-2DF9D85C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6F36-92E7-45C2-B93E-47381FD975A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964A-B1F4-4A42-A04C-8E5A4564D53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Метод координат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 – 2 – 3 – 4 –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5 – 6 – 7 – 8 – 9 – 10 – 11 – 12 – 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3 – 14 – 15 – 16 – 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7 – 18 – 1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0 – 21 – 22 – 23 – 2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4 – 2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8000" y="1699920"/>
            <a:ext cx="36957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(1,1)         2(1,3)       3(9,3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(9,1)         5(4,4)       6(3,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7(2,5)        8(2,11)    9(8,11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0(8,5)     11(7,5)     12(6,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3(3,6)    14(3,10)  15(7,10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6(7,6)    17(8,7)    18(12,7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9(12,3)  20(11,4)  21(11,2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2(13,2)  23(13,4)  24(11,3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5(13,3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6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6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600"/>
                            </p:stCondLst>
                            <p:childTnLst>
                              <p:par>
                                <p:cTn id="2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600"/>
                            </p:stCondLst>
                            <p:childTnLst>
                              <p:par>
                                <p:cTn id="2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2600"/>
                            </p:stCondLst>
                            <p:childTnLst>
                              <p:par>
                                <p:cTn id="2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4600"/>
                            </p:stCondLst>
                            <p:childTnLst>
                              <p:par>
                                <p:cTn id="2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600"/>
                            </p:stCondLst>
                            <p:childTnLst>
                              <p:par>
                                <p:cTn id="2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8600"/>
                            </p:stCondLst>
                            <p:childTnLst>
                              <p:par>
                                <p:cTn id="3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600"/>
                            </p:stCondLst>
                            <p:childTnLst>
                              <p:par>
                                <p:cTn id="3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2600"/>
                            </p:stCondLst>
                            <p:childTnLst>
                              <p:par>
                                <p:cTn id="3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4600"/>
                            </p:stCondLst>
                            <p:childTnLst>
                              <p:par>
                                <p:cTn id="3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6600"/>
                            </p:stCondLst>
                            <p:childTnLst>
                              <p:par>
                                <p:cTn id="3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8600"/>
                            </p:stCondLst>
                            <p:childTnLst>
                              <p:par>
                                <p:cTn id="3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600"/>
                            </p:stCondLst>
                            <p:childTnLst>
                              <p:par>
                                <p:cTn id="3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2600"/>
                            </p:stCondLst>
                            <p:childTnLst>
                              <p:par>
                                <p:cTn id="3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Флажковая азбука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ользуясь кодовой таблицей флажковой азбуки (ТПО с.18 №15), расшифруйте название следующей станции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68360" y="4652640"/>
            <a:ext cx="8496360" cy="578160"/>
            <a:chOff x="468360" y="4652640"/>
            <a:chExt cx="8496360" cy="578160"/>
          </a:xfrm>
        </p:grpSpPr>
        <p:sp>
          <p:nvSpPr>
            <p:cNvPr id="110" name=""/>
            <p:cNvSpPr/>
            <p:nvPr/>
          </p:nvSpPr>
          <p:spPr>
            <a:xfrm>
              <a:off x="468360" y="4653000"/>
              <a:ext cx="14436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8360" y="479736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8360" y="4941720"/>
              <a:ext cx="144360" cy="144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8360" y="508464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2720" y="465300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2720" y="4797360"/>
              <a:ext cx="14436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2720" y="494172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2720" y="5084640"/>
              <a:ext cx="144360" cy="144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7080" y="4653000"/>
              <a:ext cx="14472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7080" y="479736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7080" y="4941720"/>
              <a:ext cx="144720" cy="144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7080" y="5084640"/>
              <a:ext cx="14472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0000" y="465300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00000" y="4797360"/>
              <a:ext cx="14472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00000" y="4941720"/>
              <a:ext cx="14472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00000" y="5084640"/>
              <a:ext cx="144720" cy="144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44720" y="4653000"/>
              <a:ext cx="14436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44720" y="479736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44720" y="4941720"/>
              <a:ext cx="144360" cy="144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44720" y="508464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76360" y="4653000"/>
              <a:ext cx="792000" cy="576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476360" y="4652640"/>
              <a:ext cx="792000" cy="57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84360" y="4653000"/>
              <a:ext cx="792360" cy="576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484360" y="4652640"/>
              <a:ext cx="792360" cy="57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4360" y="4653000"/>
              <a:ext cx="792360" cy="57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3565440" y="4653000"/>
              <a:ext cx="792000" cy="576360"/>
              <a:chOff x="3565440" y="4653000"/>
              <a:chExt cx="792000" cy="576360"/>
            </a:xfrm>
          </p:grpSpPr>
          <p:sp>
            <p:nvSpPr>
              <p:cNvPr id="136" name=""/>
              <p:cNvSpPr/>
              <p:nvPr/>
            </p:nvSpPr>
            <p:spPr>
              <a:xfrm>
                <a:off x="3565440" y="4653000"/>
                <a:ext cx="79200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97080" y="4653000"/>
                <a:ext cx="0" cy="5763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565440" y="4941720"/>
                <a:ext cx="79200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443280" y="4653000"/>
              <a:ext cx="648000" cy="576360"/>
              <a:chOff x="6443280" y="4653000"/>
              <a:chExt cx="648000" cy="576360"/>
            </a:xfrm>
          </p:grpSpPr>
          <p:sp>
            <p:nvSpPr>
              <p:cNvPr id="140" name=""/>
              <p:cNvSpPr/>
              <p:nvPr/>
            </p:nvSpPr>
            <p:spPr>
              <a:xfrm rot="5400000">
                <a:off x="6478920" y="4617360"/>
                <a:ext cx="576360" cy="647640"/>
              </a:xfrm>
              <a:prstGeom prst="triangle">
                <a:avLst>
                  <a:gd name="adj" fmla="val 50000"/>
                </a:avLst>
              </a:prstGeom>
              <a:solidFill>
                <a:srgbClr val="cc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43640" y="4653000"/>
                <a:ext cx="647640" cy="28872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6443280" y="4941720"/>
                <a:ext cx="647640" cy="28764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4573440" y="4653000"/>
              <a:ext cx="647640" cy="577440"/>
              <a:chOff x="4573440" y="4653000"/>
              <a:chExt cx="647640" cy="577440"/>
            </a:xfrm>
          </p:grpSpPr>
          <p:sp>
            <p:nvSpPr>
              <p:cNvPr id="144" name=""/>
              <p:cNvSpPr/>
              <p:nvPr/>
            </p:nvSpPr>
            <p:spPr>
              <a:xfrm>
                <a:off x="4573440" y="4653000"/>
                <a:ext cx="647640" cy="288720"/>
              </a:xfrm>
              <a:prstGeom prst="rtTriangle">
                <a:avLst/>
              </a:prstGeom>
              <a:solidFill>
                <a:srgbClr val="cc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4573440" y="4941000"/>
                <a:ext cx="647640" cy="289080"/>
              </a:xfrm>
              <a:prstGeom prst="rtTriangle">
                <a:avLst/>
              </a:prstGeom>
              <a:solidFill>
                <a:srgbClr val="66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5364000" y="4653000"/>
              <a:ext cx="863280" cy="577800"/>
              <a:chOff x="5364000" y="4653000"/>
              <a:chExt cx="863280" cy="577800"/>
            </a:xfrm>
          </p:grpSpPr>
          <p:sp>
            <p:nvSpPr>
              <p:cNvPr id="147" name=""/>
              <p:cNvSpPr/>
              <p:nvPr/>
            </p:nvSpPr>
            <p:spPr>
              <a:xfrm>
                <a:off x="5364000" y="4653000"/>
                <a:ext cx="431640" cy="28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95640" y="4653000"/>
                <a:ext cx="431640" cy="288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364000" y="4941720"/>
                <a:ext cx="431640" cy="28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95640" y="4941720"/>
                <a:ext cx="431640" cy="289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7345440" y="4653000"/>
              <a:ext cx="792000" cy="576360"/>
              <a:chOff x="7345440" y="4653000"/>
              <a:chExt cx="792000" cy="576360"/>
            </a:xfrm>
          </p:grpSpPr>
          <p:sp>
            <p:nvSpPr>
              <p:cNvPr id="152" name=""/>
              <p:cNvSpPr/>
              <p:nvPr/>
            </p:nvSpPr>
            <p:spPr>
              <a:xfrm>
                <a:off x="7345440" y="4653000"/>
                <a:ext cx="79200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777080" y="4653000"/>
                <a:ext cx="0" cy="5763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45440" y="4941720"/>
                <a:ext cx="79200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8317080" y="4653000"/>
              <a:ext cx="647640" cy="577440"/>
              <a:chOff x="8317080" y="4653000"/>
              <a:chExt cx="647640" cy="577440"/>
            </a:xfrm>
          </p:grpSpPr>
          <p:sp>
            <p:nvSpPr>
              <p:cNvPr id="156" name=""/>
              <p:cNvSpPr/>
              <p:nvPr/>
            </p:nvSpPr>
            <p:spPr>
              <a:xfrm>
                <a:off x="8317080" y="4653000"/>
                <a:ext cx="647640" cy="288720"/>
              </a:xfrm>
              <a:prstGeom prst="rtTriangle">
                <a:avLst/>
              </a:prstGeom>
              <a:solidFill>
                <a:srgbClr val="cc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8317080" y="4941000"/>
                <a:ext cx="647640" cy="289080"/>
              </a:xfrm>
              <a:prstGeom prst="rtTriangle">
                <a:avLst/>
              </a:prstGeom>
              <a:solidFill>
                <a:srgbClr val="66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med">
    <p:newsflash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800"/>
                            </p:stCondLst>
                            <p:childTnLst>
                              <p:par>
                                <p:cTn id="3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800"/>
                            </p:stCondLst>
                            <p:childTnLst>
                              <p:par>
                                <p:cTn id="3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Слово из букв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А Н О В Е Д И К О Р 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Следующая буква алфавита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Зная, что каждой букве соответствует следующая буква алфавита, расшифруйте следующее сообщение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М Й У Ё С Б У Ф С П Д С Б 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100"/>
                            </p:stCondLst>
                            <p:childTnLst>
                              <p:par>
                                <p:cTn id="3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100"/>
                            </p:stCondLst>
                            <p:childTnLst>
                              <p:par>
                                <p:cTn id="4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Пословицы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557360"/>
            <a:ext cx="75438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он апи сан опер ом, тон ев ыруб ишь то по ро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с тра хагл аза в ели к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 мел огоп уляб оит с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с ерди тыхво дув озя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сяк св оегос час тьяку знец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ле зам игор юнеп омо жжешь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00"/>
                            </p:stCondLst>
                            <p:childTnLst>
                              <p:par>
                                <p:cTn id="4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800"/>
                            </p:stCondLst>
                            <p:childTnLst>
                              <p:par>
                                <p:cTn id="4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800"/>
                            </p:stCondLst>
                            <p:childTnLst>
                              <p:par>
                                <p:cTn id="4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7800"/>
                            </p:stCondLst>
                            <p:childTnLst>
                              <p:par>
                                <p:cTn id="4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9800"/>
                            </p:stCondLst>
                            <p:childTnLst>
                              <p:par>
                                <p:cTn id="4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1800"/>
                            </p:stCondLst>
                            <p:childTnLst>
                              <p:par>
                                <p:cTn id="4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Морская семафорная азбука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ользуясь кодовой таблицей морской семафорной азбуки (ТПО с.20 №17), расшифруйте название следующей станции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10840" y="4292640"/>
            <a:ext cx="8021880" cy="1297080"/>
            <a:chOff x="510840" y="4292640"/>
            <a:chExt cx="8021880" cy="1297080"/>
          </a:xfrm>
        </p:grpSpPr>
        <p:grpSp>
          <p:nvGrpSpPr>
            <p:cNvPr id="167" name=""/>
            <p:cNvGrpSpPr/>
            <p:nvPr/>
          </p:nvGrpSpPr>
          <p:grpSpPr>
            <a:xfrm>
              <a:off x="755640" y="4653000"/>
              <a:ext cx="431640" cy="863640"/>
              <a:chOff x="755640" y="4653000"/>
              <a:chExt cx="431640" cy="863640"/>
            </a:xfrm>
          </p:grpSpPr>
          <p:sp>
            <p:nvSpPr>
              <p:cNvPr id="168" name=""/>
              <p:cNvSpPr/>
              <p:nvPr/>
            </p:nvSpPr>
            <p:spPr>
              <a:xfrm>
                <a:off x="828720" y="465300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971640" y="4869000"/>
                <a:ext cx="0" cy="43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55640" y="5300640"/>
                <a:ext cx="21600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71640" y="5300640"/>
                <a:ext cx="21564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050920" y="4724280"/>
              <a:ext cx="431640" cy="863640"/>
              <a:chOff x="2050920" y="4724280"/>
              <a:chExt cx="431640" cy="863640"/>
            </a:xfrm>
          </p:grpSpPr>
          <p:sp>
            <p:nvSpPr>
              <p:cNvPr id="173" name=""/>
              <p:cNvSpPr/>
              <p:nvPr/>
            </p:nvSpPr>
            <p:spPr>
              <a:xfrm>
                <a:off x="2124000" y="472428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66920" y="4940280"/>
                <a:ext cx="0" cy="43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2050920" y="5371920"/>
                <a:ext cx="21600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66920" y="5371920"/>
                <a:ext cx="21564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3203640" y="4724280"/>
              <a:ext cx="431640" cy="863640"/>
              <a:chOff x="3203640" y="4724280"/>
              <a:chExt cx="431640" cy="863640"/>
            </a:xfrm>
          </p:grpSpPr>
          <p:sp>
            <p:nvSpPr>
              <p:cNvPr id="178" name=""/>
              <p:cNvSpPr/>
              <p:nvPr/>
            </p:nvSpPr>
            <p:spPr>
              <a:xfrm>
                <a:off x="3276720" y="472428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19640" y="4940280"/>
                <a:ext cx="0" cy="43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3203640" y="5371920"/>
                <a:ext cx="21600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419640" y="5371920"/>
                <a:ext cx="21564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572000" y="4724280"/>
              <a:ext cx="431640" cy="863640"/>
              <a:chOff x="4572000" y="4724280"/>
              <a:chExt cx="431640" cy="863640"/>
            </a:xfrm>
          </p:grpSpPr>
          <p:sp>
            <p:nvSpPr>
              <p:cNvPr id="183" name=""/>
              <p:cNvSpPr/>
              <p:nvPr/>
            </p:nvSpPr>
            <p:spPr>
              <a:xfrm>
                <a:off x="4645080" y="472428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88000" y="4940280"/>
                <a:ext cx="0" cy="43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4572000" y="5371920"/>
                <a:ext cx="21600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788000" y="5371920"/>
                <a:ext cx="21564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867280" y="4724280"/>
              <a:ext cx="431640" cy="863640"/>
              <a:chOff x="5867280" y="4724280"/>
              <a:chExt cx="431640" cy="863640"/>
            </a:xfrm>
          </p:grpSpPr>
          <p:sp>
            <p:nvSpPr>
              <p:cNvPr id="188" name=""/>
              <p:cNvSpPr/>
              <p:nvPr/>
            </p:nvSpPr>
            <p:spPr>
              <a:xfrm>
                <a:off x="5940360" y="472428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083280" y="4940280"/>
                <a:ext cx="0" cy="43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5867280" y="5371920"/>
                <a:ext cx="21600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83280" y="5371920"/>
                <a:ext cx="21564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7020000" y="4724280"/>
              <a:ext cx="431640" cy="863640"/>
              <a:chOff x="7020000" y="4724280"/>
              <a:chExt cx="431640" cy="863640"/>
            </a:xfrm>
          </p:grpSpPr>
          <p:sp>
            <p:nvSpPr>
              <p:cNvPr id="193" name=""/>
              <p:cNvSpPr/>
              <p:nvPr/>
            </p:nvSpPr>
            <p:spPr>
              <a:xfrm>
                <a:off x="7093080" y="472428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236000" y="4940280"/>
                <a:ext cx="0" cy="43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7020000" y="5371920"/>
                <a:ext cx="21600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236000" y="5371920"/>
                <a:ext cx="21564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8101080" y="4653000"/>
              <a:ext cx="431640" cy="863640"/>
              <a:chOff x="8101080" y="4653000"/>
              <a:chExt cx="431640" cy="863640"/>
            </a:xfrm>
          </p:grpSpPr>
          <p:sp>
            <p:nvSpPr>
              <p:cNvPr id="198" name=""/>
              <p:cNvSpPr/>
              <p:nvPr/>
            </p:nvSpPr>
            <p:spPr>
              <a:xfrm>
                <a:off x="8174160" y="465300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317080" y="4869000"/>
                <a:ext cx="0" cy="43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8101080" y="5300640"/>
                <a:ext cx="21600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317080" y="5300640"/>
                <a:ext cx="21564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 flipV="1">
              <a:off x="971640" y="4868640"/>
              <a:ext cx="28728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610920" y="4868640"/>
              <a:ext cx="36036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979640" y="5157720"/>
              <a:ext cx="28872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268360" y="4941720"/>
              <a:ext cx="28764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19640" y="508464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131640" y="5013000"/>
              <a:ext cx="287640" cy="14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88000" y="5157720"/>
              <a:ext cx="28872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4500720" y="4941720"/>
              <a:ext cx="28728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084720" y="4508280"/>
              <a:ext cx="0" cy="64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5796000" y="4869000"/>
              <a:ext cx="288720" cy="28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804000" y="5084640"/>
              <a:ext cx="43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36000" y="5084640"/>
              <a:ext cx="21564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8317080" y="4365360"/>
              <a:ext cx="0" cy="64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8027640" y="5013360"/>
              <a:ext cx="28908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2163000">
              <a:off x="539280" y="486864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584600">
              <a:off x="3058920" y="501336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2251200">
              <a:off x="4427640" y="494172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2464800">
              <a:off x="5724000" y="486864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3235200">
              <a:off x="1187640" y="486864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3235200">
              <a:off x="2484000" y="4941360"/>
              <a:ext cx="14472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3474000">
              <a:off x="1979280" y="530028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2345400">
              <a:off x="4932000" y="53737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19640" y="544500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21222000">
              <a:off x="6084360" y="450828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32720" y="508464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3014400">
              <a:off x="7309080" y="522900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20239800">
              <a:off x="8027640" y="51577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17080" y="42926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200"/>
                            </p:stCondLst>
                            <p:childTnLst>
                              <p:par>
                                <p:cTn id="4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00"/>
                            </p:stCondLst>
                            <p:childTnLst>
                              <p:par>
                                <p:cTn id="4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Текст с ошибками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99640" y="2060640"/>
            <a:ext cx="6985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Миня завут кузякин Вася –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Всех граматней пешу я в классе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Бальшой любитель я парядк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О шыбок нет вмоих титрадках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300"/>
                            </p:stCondLst>
                            <p:childTnLst>
                              <p:par>
                                <p:cTn id="4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300"/>
                            </p:stCondLst>
                            <p:childTnLst>
                              <p:par>
                                <p:cTn id="4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300"/>
                            </p:stCondLst>
                            <p:childTnLst>
                              <p:par>
                                <p:cTn id="4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8300"/>
                            </p:stCondLst>
                            <p:childTnLst>
                              <p:par>
                                <p:cTn id="4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Ребус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3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Разгадайте ребус (нужно взять первые буквы слов), и вы получите название следующей станци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95280" y="4221000"/>
            <a:ext cx="8445600" cy="1224000"/>
            <a:chOff x="395280" y="4221000"/>
            <a:chExt cx="8445600" cy="122400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4067280" y="4221000"/>
              <a:ext cx="10983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95280" y="4292640"/>
              <a:ext cx="1073160" cy="108108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76360" y="4365720"/>
              <a:ext cx="503280" cy="1079280"/>
            </a:xfrm>
            <a:prstGeom prst="lightningBol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00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32000" y="4508640"/>
              <a:ext cx="790560" cy="792000"/>
            </a:xfrm>
            <a:prstGeom prst="cube">
              <a:avLst>
                <a:gd name="adj" fmla="val 25000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59640" y="4437000"/>
              <a:ext cx="790560" cy="792360"/>
            </a:xfrm>
            <a:prstGeom prst="cube">
              <a:avLst>
                <a:gd name="adj" fmla="val 25000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95640" y="4365720"/>
              <a:ext cx="720720" cy="431640"/>
            </a:xfrm>
            <a:prstGeom prst="triangle">
              <a:avLst>
                <a:gd name="adj" fmla="val 50000"/>
              </a:avLst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64000" y="4581360"/>
              <a:ext cx="1079640" cy="648000"/>
            </a:xfrm>
            <a:custGeom>
              <a:avLst/>
              <a:gdLst>
                <a:gd name="textAreaLeft" fmla="*/ 270000 w 1079640"/>
                <a:gd name="textAreaRight" fmla="*/ 810000 w 1079640"/>
                <a:gd name="textAreaTop" fmla="*/ 81000 h 648000"/>
                <a:gd name="textAreaBottom" fmla="*/ 64800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2"/>
            <a:stretch/>
          </p:blipFill>
          <p:spPr>
            <a:xfrm>
              <a:off x="7740720" y="4221000"/>
              <a:ext cx="11001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195640" y="4797360"/>
              <a:ext cx="720720" cy="432000"/>
            </a:xfrm>
            <a:prstGeom prst="triangle">
              <a:avLst>
                <a:gd name="adj" fmla="val 50000"/>
              </a:avLst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400"/>
                            </p:stCondLst>
                            <p:childTnLst>
                              <p:par>
                                <p:cTn id="5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400"/>
                            </p:stCondLst>
                            <p:childTnLst>
                              <p:par>
                                <p:cTn id="5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«Калькулятор»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Задач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лыш, Карлсон и Фрекен Бок сели пить чай с плюшками. Карлсон съел 56 плюшек, Малыш – 4, а Фрекен Бок – 15. Сколько всего плюшек было съедено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200"/>
                            </p:stCondLst>
                            <p:childTnLst>
                              <p:par>
                                <p:cTn id="5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200"/>
                            </p:stCondLst>
                            <p:childTnLst>
                              <p:par>
                                <p:cTn id="5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486560" cy="23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«Понравилась ли Вам игра?»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Как бы ты дорисовал смайлик, выразив тем самым свою оценку игры?</a:t>
            </a:r>
            <a:br>
              <a:rPr sz="4000"/>
            </a:br>
            <a:endParaRPr b="0" lang="en-US" sz="40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rcRect l="14004" t="7999" r="18001" b="12006"/>
          <a:stretch/>
        </p:blipFill>
        <p:spPr>
          <a:xfrm>
            <a:off x="755640" y="2852640"/>
            <a:ext cx="3095640" cy="2754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788000" y="2970000"/>
            <a:ext cx="36957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rial"/>
              </a:rPr>
              <a:t>- Мне интересно! Я доволен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88000" y="400536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Arial"/>
              </a:rPr>
              <a:t>- Всё так себе… Я равнодуш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88000" y="508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сё плохо! Я жалею, что потерял врем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9800"/>
                            </p:stCondLst>
                            <p:childTnLst>
                              <p:par>
                                <p:cTn id="5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8" dur="1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1300"/>
                            </p:stCondLst>
                            <p:childTnLst>
                              <p:par>
                                <p:cTn id="560" nodeType="afterEffect" fill="hold" presetClass="entr" presetID="27">
                                  <p:stCondLst>
                                    <p:cond delay="3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2560"/>
                            </p:stCondLst>
                            <p:childTnLst>
                              <p:par>
                                <p:cTn id="5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3560"/>
                            </p:stCondLst>
                            <p:childTnLst>
                              <p:par>
                                <p:cTn id="5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9280" y="4149720"/>
            <a:ext cx="412452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1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Зрители?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270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Алфавит по порядку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Зная, что каждому числу соответствует буква алфавита с таким же порядковым номером, расшифруйте следующее сообщение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5-1-2-13-32-5-1-11-12-10-15-1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Названия клавиш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754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Переключение клавиатуры с режима ввода латинских букв на режим ввода русских букв и обратно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Переключение клавиатуры с режима ввода строчных букв на режим ввода прописных букв и обратно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Фиксация режима ввода прописных букв / отказ от фиксации этого режим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Получение символов, расположенных вместе с цифровыми в верхнем ряду клавиатур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Удаление символа, стоящего справа от курсор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Удаление символа, стоящего слева от курсор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Включение на дополнительной клавиатуре режима работы с цифрами и знаками арифметических операци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Таблица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аждой букве алфавита поставлена в соответствие пара чисел: первое число – номер столбца, второе – номер строки кодовой таблицы      (ТПО с. 30 № 31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Расшифруйте следующее сообщение: (1,2) (2,2) (10,3) (2,3) (5,1) (2,2) (5,1) (4,3) (2,2) (1,3) (5,3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6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60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Кроссворд </a:t>
            </a:r>
            <a:br>
              <a:rPr sz="3800"/>
            </a:b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«Устройство компьютера»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. Основное устройство ввода информаци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. «Мозг» компьютера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3. Устройство ввода информаци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. Устройство хранения программ и данных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. Устройство для быстрого перемещения по экрану и выбора информаци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. Носитель информации, на который записывают программы для хранения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7. Другое название жёсткого диска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8. Устройство, с помощью которого можно вывести на бумагу тексты и рисунки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10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100"/>
                            </p:stCondLst>
                            <p:childTnLst>
                              <p:par>
                                <p:cTn id="1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100"/>
                            </p:stCondLst>
                            <p:childTnLst>
                              <p:par>
                                <p:cTn id="1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100"/>
                            </p:stCondLst>
                            <p:childTnLst>
                              <p:par>
                                <p:cTn id="1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10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4100"/>
                            </p:stCondLst>
                            <p:childTnLst>
                              <p:par>
                                <p:cTn id="1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610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810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Первые слоги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Сложив первые слоги представленных слов, вы получите название следующей станции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ТЕМА, ОВАЛ, РЕПА, ТИНА, КИН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Блиц-турнир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052280"/>
            <a:ext cx="7543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едения об окружающем нас мире называют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учением всевозможных способов передачи, хранения и обработки информации занимается наука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учение и передача, хранение и обработка – это … с информаци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юбой материальный объект, используемый для закрепления и хранения на нем информации называют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стему условных знаков для представления информации называют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юбое словесное высказывание, напечатанное, написанное или существующее в устной форме – это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наглядного представления разных числовых данных используют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ая форма представления информации очень удобна для представления и обработки однотипной информац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 то, что не нужно хранить в памяти компьютера, отправляется в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Щелчком на какой кнопке открывается главное меню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1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Азбука Морзе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ользуясь кодовой таблицей азбуки Морзе (ТПО с.22 №18), расшифруйте название следующей станции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._.   ._   _.   _   ._   _ _..   ._ _ _   ._.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_ _.   ._.   ._   _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01:57:34Z</dcterms:created>
  <dc:creator>Галя</dc:creator>
  <dc:description/>
  <dc:language>en-US</dc:language>
  <cp:lastModifiedBy>1</cp:lastModifiedBy>
  <dcterms:modified xsi:type="dcterms:W3CDTF">2008-04-29T09:40:57Z</dcterms:modified>
  <cp:revision>8</cp:revision>
  <dc:subject/>
  <dc:title>Слайд 1</dc:title>
</cp:coreProperties>
</file>