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1FFC-F4BF-41B5-9E97-C5DC5B00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8903-0F7C-46E9-A93C-A6E7EC8F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3E4E-05DF-4918-BCC7-82D56516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67C9-FA3C-4F75-942D-27D5C0C3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ADE4-EA87-497F-B057-66F45AFC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BA08-B9C1-4B50-A8FB-980B15AA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B3B8-F3A6-4639-BF4F-E436F63C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DF5E-DB4D-43EA-842D-D4B7C354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F96D-9A2D-4451-97A8-8A2EBED8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4ABA-A905-4214-A3FD-B8D77A86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D024-9063-4705-B743-CAB10A8F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32E0-5DF7-493C-BD9C-E2E5F9DE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2AC1-69FD-4027-8B61-871AC7CF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C2EE-C04D-4AAA-882D-4EFBA680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8398-6A87-4337-8771-DEC181D2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8D30-4B0A-4886-9138-0AF95EB7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E7B7-D2E2-48FF-AA4A-9995CC5A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B2E1-AC78-484A-A861-F8814104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6341-ED11-45EE-B308-D23AAB6C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1B9F-EED4-4BA5-97D8-5D59A356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25F4-1E7B-4ED2-898E-161E31F6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B43A-64A2-470D-BCD1-3A858FD2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CBE6-9C3C-440A-8AB6-0C8B42BD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72C2-FA12-4925-B6D9-651798C7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135C-2899-43E2-A869-12DEB9B5BF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4765-B106-4948-8D75-C4F2F25EE6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2476080" y="2492280"/>
            <a:ext cx="3894480" cy="3097440"/>
            <a:chOff x="2476080" y="2492280"/>
            <a:chExt cx="3894480" cy="3097440"/>
          </a:xfrm>
        </p:grpSpPr>
        <p:sp>
          <p:nvSpPr>
            <p:cNvPr id="515" name=""/>
            <p:cNvSpPr/>
            <p:nvPr/>
          </p:nvSpPr>
          <p:spPr>
            <a:xfrm>
              <a:off x="2556000" y="2637000"/>
              <a:ext cx="2303280" cy="230328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4066920" y="2492280"/>
              <a:ext cx="2303640" cy="230328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2476080" y="3213000"/>
              <a:ext cx="3684240" cy="2376720"/>
              <a:chOff x="2476080" y="3213000"/>
              <a:chExt cx="3684240" cy="2376720"/>
            </a:xfrm>
          </p:grpSpPr>
          <p:sp>
            <p:nvSpPr>
              <p:cNvPr id="518" name=""/>
              <p:cNvSpPr/>
              <p:nvPr/>
            </p:nvSpPr>
            <p:spPr>
              <a:xfrm>
                <a:off x="3492360" y="3573360"/>
                <a:ext cx="1656000" cy="1656000"/>
              </a:xfrm>
              <a:prstGeom prst="smileyFace">
                <a:avLst>
                  <a:gd name="adj" fmla="val 9282"/>
                </a:avLst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924360" y="4076640"/>
                <a:ext cx="216000" cy="21600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00720" y="4076640"/>
                <a:ext cx="215640" cy="21600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916360" y="5013360"/>
                <a:ext cx="1224000" cy="5763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00720" y="5013360"/>
                <a:ext cx="1223640" cy="5763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563600">
                <a:off x="2484360" y="4005360"/>
                <a:ext cx="1081080" cy="287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9876200">
                <a:off x="5076360" y="4005360"/>
                <a:ext cx="1081080" cy="287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3995280" y="3213000"/>
                <a:ext cx="289080" cy="57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3780000" y="3284640"/>
                <a:ext cx="288720" cy="57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4140360" y="3213000"/>
                <a:ext cx="288720" cy="57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4427640" y="3213000"/>
                <a:ext cx="288720" cy="57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4642920" y="3284640"/>
                <a:ext cx="289080" cy="57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67280" y="4365720"/>
                <a:ext cx="504720" cy="215640"/>
              </a:xfrm>
              <a:prstGeom prst="ellipse">
                <a:avLst/>
              </a:prstGeom>
              <a:solidFill>
                <a:srgbClr val="f6a8c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"/>
          <p:cNvSpPr txBox="1"/>
          <p:nvPr/>
        </p:nvSpPr>
        <p:spPr>
          <a:xfrm>
            <a:off x="395280" y="1268280"/>
            <a:ext cx="709308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знь веселой МОЛЕКУЛ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2421000"/>
            <a:ext cx="302436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ла молекула дома у семиклассника, в окружении своих братьев и сест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от она повзрослела и захотелось молекуле мир повидать и на другие молекулы, то есть жидкости и твердых тел посмотре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прощалась со своими родичами и выпрыгнула в ок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492360" y="738360"/>
            <a:ext cx="5325480" cy="6118920"/>
            <a:chOff x="3492360" y="738360"/>
            <a:chExt cx="5325480" cy="6118920"/>
          </a:xfrm>
        </p:grpSpPr>
        <p:sp>
          <p:nvSpPr>
            <p:cNvPr id="534" name=""/>
            <p:cNvSpPr/>
            <p:nvPr/>
          </p:nvSpPr>
          <p:spPr>
            <a:xfrm>
              <a:off x="3492360" y="738360"/>
              <a:ext cx="5325480" cy="611892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23000" y="738360"/>
              <a:ext cx="499320" cy="61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22320" y="2510640"/>
              <a:ext cx="23306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561840" y="6054840"/>
            <a:ext cx="1009440" cy="803160"/>
            <a:chOff x="3561840" y="6054840"/>
            <a:chExt cx="1009440" cy="803160"/>
          </a:xfrm>
        </p:grpSpPr>
        <p:sp>
          <p:nvSpPr>
            <p:cNvPr id="538" name=""/>
            <p:cNvSpPr/>
            <p:nvPr/>
          </p:nvSpPr>
          <p:spPr>
            <a:xfrm>
              <a:off x="3582360" y="6092280"/>
              <a:ext cx="597240" cy="59724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5400000">
              <a:off x="3974040" y="6054840"/>
              <a:ext cx="597240" cy="59724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3561840" y="6241680"/>
              <a:ext cx="955800" cy="616320"/>
              <a:chOff x="3561840" y="6241680"/>
              <a:chExt cx="955800" cy="616320"/>
            </a:xfrm>
          </p:grpSpPr>
          <p:sp>
            <p:nvSpPr>
              <p:cNvPr id="541" name=""/>
              <p:cNvSpPr/>
              <p:nvPr/>
            </p:nvSpPr>
            <p:spPr>
              <a:xfrm>
                <a:off x="3825360" y="6334920"/>
                <a:ext cx="429480" cy="429480"/>
              </a:xfrm>
              <a:prstGeom prst="smileyFace">
                <a:avLst>
                  <a:gd name="adj" fmla="val 9282"/>
                </a:avLst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937320" y="6465600"/>
                <a:ext cx="55800" cy="5580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87080" y="6465600"/>
                <a:ext cx="55800" cy="5580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675960" y="6708600"/>
                <a:ext cx="317520" cy="149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087080" y="6708600"/>
                <a:ext cx="317160" cy="149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563600">
                <a:off x="3563640" y="6447240"/>
                <a:ext cx="280440" cy="745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9876200">
                <a:off x="4236120" y="6447240"/>
                <a:ext cx="280440" cy="745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3956040" y="6241680"/>
                <a:ext cx="74880" cy="14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3899880" y="6260040"/>
                <a:ext cx="74880" cy="14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3993480" y="6241680"/>
                <a:ext cx="74880" cy="14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4068000" y="6241680"/>
                <a:ext cx="74880" cy="14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4124160" y="6260040"/>
                <a:ext cx="74880" cy="14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974400" y="6540480"/>
                <a:ext cx="130680" cy="55800"/>
              </a:xfrm>
              <a:prstGeom prst="ellipse">
                <a:avLst/>
              </a:prstGeom>
              <a:solidFill>
                <a:srgbClr val="f6a8c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"/>
          <p:cNvSpPr txBox="1"/>
          <p:nvPr/>
        </p:nvSpPr>
        <p:spPr>
          <a:xfrm>
            <a:off x="2411280" y="0"/>
            <a:ext cx="3816360" cy="18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лава перв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2340000" y="0"/>
            <a:ext cx="3720960" cy="19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лава втор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6" name=""/>
          <p:cNvSpPr/>
          <p:nvPr/>
        </p:nvSpPr>
        <p:spPr>
          <a:xfrm>
            <a:off x="755640" y="2565360"/>
            <a:ext cx="187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начала решила молекула повидать своих дальних родственников – молекул воды и прыгнула в озер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484360" y="2205000"/>
            <a:ext cx="5992920" cy="4221360"/>
          </a:xfrm>
          <a:custGeom>
            <a:avLst/>
            <a:gdLst/>
            <a:ahLst/>
            <a:rect l="l" t="t" r="r" b="b"/>
            <a:pathLst>
              <a:path w="2687" h="1571">
                <a:moveTo>
                  <a:pt x="1069" y="614"/>
                </a:moveTo>
                <a:cubicBezTo>
                  <a:pt x="968" y="662"/>
                  <a:pt x="870" y="730"/>
                  <a:pt x="758" y="750"/>
                </a:cubicBezTo>
                <a:cubicBezTo>
                  <a:pt x="713" y="772"/>
                  <a:pt x="621" y="811"/>
                  <a:pt x="621" y="811"/>
                </a:cubicBezTo>
                <a:cubicBezTo>
                  <a:pt x="543" y="808"/>
                  <a:pt x="464" y="810"/>
                  <a:pt x="386" y="803"/>
                </a:cubicBezTo>
                <a:cubicBezTo>
                  <a:pt x="377" y="802"/>
                  <a:pt x="373" y="787"/>
                  <a:pt x="364" y="788"/>
                </a:cubicBezTo>
                <a:cubicBezTo>
                  <a:pt x="320" y="791"/>
                  <a:pt x="279" y="811"/>
                  <a:pt x="235" y="818"/>
                </a:cubicBezTo>
                <a:cubicBezTo>
                  <a:pt x="183" y="853"/>
                  <a:pt x="207" y="843"/>
                  <a:pt x="167" y="856"/>
                </a:cubicBezTo>
                <a:cubicBezTo>
                  <a:pt x="147" y="914"/>
                  <a:pt x="176" y="837"/>
                  <a:pt x="136" y="909"/>
                </a:cubicBezTo>
                <a:cubicBezTo>
                  <a:pt x="129" y="921"/>
                  <a:pt x="127" y="935"/>
                  <a:pt x="121" y="947"/>
                </a:cubicBezTo>
                <a:cubicBezTo>
                  <a:pt x="105" y="980"/>
                  <a:pt x="107" y="962"/>
                  <a:pt x="83" y="993"/>
                </a:cubicBezTo>
                <a:cubicBezTo>
                  <a:pt x="17" y="1077"/>
                  <a:pt x="73" y="1006"/>
                  <a:pt x="45" y="1061"/>
                </a:cubicBezTo>
                <a:cubicBezTo>
                  <a:pt x="34" y="1083"/>
                  <a:pt x="14" y="1101"/>
                  <a:pt x="0" y="1121"/>
                </a:cubicBezTo>
                <a:cubicBezTo>
                  <a:pt x="8" y="1285"/>
                  <a:pt x="3" y="1461"/>
                  <a:pt x="182" y="1523"/>
                </a:cubicBezTo>
                <a:cubicBezTo>
                  <a:pt x="230" y="1571"/>
                  <a:pt x="290" y="1550"/>
                  <a:pt x="356" y="1546"/>
                </a:cubicBezTo>
                <a:cubicBezTo>
                  <a:pt x="423" y="1534"/>
                  <a:pt x="473" y="1490"/>
                  <a:pt x="538" y="1478"/>
                </a:cubicBezTo>
                <a:cubicBezTo>
                  <a:pt x="549" y="1446"/>
                  <a:pt x="564" y="1435"/>
                  <a:pt x="584" y="1409"/>
                </a:cubicBezTo>
                <a:cubicBezTo>
                  <a:pt x="612" y="1373"/>
                  <a:pt x="625" y="1341"/>
                  <a:pt x="667" y="1318"/>
                </a:cubicBezTo>
                <a:cubicBezTo>
                  <a:pt x="679" y="1311"/>
                  <a:pt x="693" y="1309"/>
                  <a:pt x="705" y="1303"/>
                </a:cubicBezTo>
                <a:cubicBezTo>
                  <a:pt x="713" y="1299"/>
                  <a:pt x="720" y="1293"/>
                  <a:pt x="728" y="1288"/>
                </a:cubicBezTo>
                <a:cubicBezTo>
                  <a:pt x="845" y="1293"/>
                  <a:pt x="914" y="1290"/>
                  <a:pt x="1016" y="1318"/>
                </a:cubicBezTo>
                <a:cubicBezTo>
                  <a:pt x="1067" y="1355"/>
                  <a:pt x="1005" y="1314"/>
                  <a:pt x="1069" y="1341"/>
                </a:cubicBezTo>
                <a:cubicBezTo>
                  <a:pt x="1119" y="1362"/>
                  <a:pt x="1137" y="1378"/>
                  <a:pt x="1197" y="1387"/>
                </a:cubicBezTo>
                <a:cubicBezTo>
                  <a:pt x="1282" y="1429"/>
                  <a:pt x="1377" y="1473"/>
                  <a:pt x="1470" y="1493"/>
                </a:cubicBezTo>
                <a:cubicBezTo>
                  <a:pt x="1516" y="1471"/>
                  <a:pt x="1548" y="1438"/>
                  <a:pt x="1584" y="1402"/>
                </a:cubicBezTo>
                <a:cubicBezTo>
                  <a:pt x="1594" y="1392"/>
                  <a:pt x="1614" y="1371"/>
                  <a:pt x="1614" y="1371"/>
                </a:cubicBezTo>
                <a:cubicBezTo>
                  <a:pt x="1630" y="1326"/>
                  <a:pt x="1615" y="1302"/>
                  <a:pt x="1652" y="1265"/>
                </a:cubicBezTo>
                <a:cubicBezTo>
                  <a:pt x="1664" y="1219"/>
                  <a:pt x="1685" y="1207"/>
                  <a:pt x="1728" y="1190"/>
                </a:cubicBezTo>
                <a:cubicBezTo>
                  <a:pt x="1800" y="1113"/>
                  <a:pt x="1977" y="1084"/>
                  <a:pt x="2077" y="1076"/>
                </a:cubicBezTo>
                <a:cubicBezTo>
                  <a:pt x="2175" y="1050"/>
                  <a:pt x="2301" y="1057"/>
                  <a:pt x="2395" y="1053"/>
                </a:cubicBezTo>
                <a:cubicBezTo>
                  <a:pt x="2420" y="1033"/>
                  <a:pt x="2446" y="1013"/>
                  <a:pt x="2471" y="993"/>
                </a:cubicBezTo>
                <a:cubicBezTo>
                  <a:pt x="2491" y="977"/>
                  <a:pt x="2546" y="977"/>
                  <a:pt x="2546" y="977"/>
                </a:cubicBezTo>
                <a:cubicBezTo>
                  <a:pt x="2572" y="916"/>
                  <a:pt x="2552" y="949"/>
                  <a:pt x="2615" y="886"/>
                </a:cubicBezTo>
                <a:cubicBezTo>
                  <a:pt x="2622" y="879"/>
                  <a:pt x="2630" y="871"/>
                  <a:pt x="2637" y="864"/>
                </a:cubicBezTo>
                <a:cubicBezTo>
                  <a:pt x="2642" y="859"/>
                  <a:pt x="2653" y="849"/>
                  <a:pt x="2653" y="849"/>
                </a:cubicBezTo>
                <a:cubicBezTo>
                  <a:pt x="2671" y="791"/>
                  <a:pt x="2687" y="630"/>
                  <a:pt x="2637" y="583"/>
                </a:cubicBezTo>
                <a:cubicBezTo>
                  <a:pt x="2635" y="570"/>
                  <a:pt x="2637" y="556"/>
                  <a:pt x="2630" y="545"/>
                </a:cubicBezTo>
                <a:cubicBezTo>
                  <a:pt x="2624" y="536"/>
                  <a:pt x="2605" y="540"/>
                  <a:pt x="2600" y="530"/>
                </a:cubicBezTo>
                <a:cubicBezTo>
                  <a:pt x="2541" y="424"/>
                  <a:pt x="2636" y="523"/>
                  <a:pt x="2577" y="439"/>
                </a:cubicBezTo>
                <a:cubicBezTo>
                  <a:pt x="2514" y="349"/>
                  <a:pt x="2393" y="282"/>
                  <a:pt x="2289" y="250"/>
                </a:cubicBezTo>
                <a:cubicBezTo>
                  <a:pt x="2257" y="229"/>
                  <a:pt x="2219" y="202"/>
                  <a:pt x="2183" y="189"/>
                </a:cubicBezTo>
                <a:cubicBezTo>
                  <a:pt x="2161" y="181"/>
                  <a:pt x="2137" y="180"/>
                  <a:pt x="2114" y="174"/>
                </a:cubicBezTo>
                <a:cubicBezTo>
                  <a:pt x="2079" y="150"/>
                  <a:pt x="2033" y="136"/>
                  <a:pt x="1993" y="121"/>
                </a:cubicBezTo>
                <a:cubicBezTo>
                  <a:pt x="1978" y="115"/>
                  <a:pt x="1948" y="106"/>
                  <a:pt x="1948" y="106"/>
                </a:cubicBezTo>
                <a:cubicBezTo>
                  <a:pt x="1918" y="76"/>
                  <a:pt x="1883" y="71"/>
                  <a:pt x="1842" y="60"/>
                </a:cubicBezTo>
                <a:cubicBezTo>
                  <a:pt x="1822" y="41"/>
                  <a:pt x="1798" y="35"/>
                  <a:pt x="1773" y="22"/>
                </a:cubicBezTo>
                <a:cubicBezTo>
                  <a:pt x="1738" y="35"/>
                  <a:pt x="1731" y="16"/>
                  <a:pt x="1698" y="0"/>
                </a:cubicBezTo>
                <a:cubicBezTo>
                  <a:pt x="1370" y="4"/>
                  <a:pt x="1251" y="12"/>
                  <a:pt x="993" y="30"/>
                </a:cubicBezTo>
                <a:cubicBezTo>
                  <a:pt x="845" y="102"/>
                  <a:pt x="818" y="55"/>
                  <a:pt x="553" y="60"/>
                </a:cubicBezTo>
                <a:cubicBezTo>
                  <a:pt x="545" y="63"/>
                  <a:pt x="538" y="67"/>
                  <a:pt x="530" y="68"/>
                </a:cubicBezTo>
                <a:cubicBezTo>
                  <a:pt x="497" y="72"/>
                  <a:pt x="464" y="68"/>
                  <a:pt x="432" y="75"/>
                </a:cubicBezTo>
                <a:cubicBezTo>
                  <a:pt x="425" y="76"/>
                  <a:pt x="424" y="88"/>
                  <a:pt x="417" y="91"/>
                </a:cubicBezTo>
                <a:cubicBezTo>
                  <a:pt x="402" y="96"/>
                  <a:pt x="386" y="96"/>
                  <a:pt x="371" y="98"/>
                </a:cubicBezTo>
                <a:cubicBezTo>
                  <a:pt x="319" y="117"/>
                  <a:pt x="265" y="135"/>
                  <a:pt x="212" y="151"/>
                </a:cubicBezTo>
                <a:cubicBezTo>
                  <a:pt x="181" y="216"/>
                  <a:pt x="216" y="261"/>
                  <a:pt x="273" y="288"/>
                </a:cubicBezTo>
                <a:cubicBezTo>
                  <a:pt x="307" y="236"/>
                  <a:pt x="317" y="293"/>
                  <a:pt x="356" y="310"/>
                </a:cubicBezTo>
                <a:cubicBezTo>
                  <a:pt x="398" y="328"/>
                  <a:pt x="448" y="337"/>
                  <a:pt x="493" y="348"/>
                </a:cubicBezTo>
                <a:cubicBezTo>
                  <a:pt x="535" y="358"/>
                  <a:pt x="496" y="353"/>
                  <a:pt x="538" y="371"/>
                </a:cubicBezTo>
                <a:cubicBezTo>
                  <a:pt x="552" y="377"/>
                  <a:pt x="593" y="384"/>
                  <a:pt x="606" y="386"/>
                </a:cubicBezTo>
                <a:cubicBezTo>
                  <a:pt x="660" y="421"/>
                  <a:pt x="592" y="381"/>
                  <a:pt x="667" y="409"/>
                </a:cubicBezTo>
                <a:cubicBezTo>
                  <a:pt x="726" y="431"/>
                  <a:pt x="788" y="469"/>
                  <a:pt x="849" y="485"/>
                </a:cubicBezTo>
                <a:cubicBezTo>
                  <a:pt x="896" y="516"/>
                  <a:pt x="955" y="543"/>
                  <a:pt x="1008" y="561"/>
                </a:cubicBezTo>
                <a:cubicBezTo>
                  <a:pt x="1043" y="612"/>
                  <a:pt x="1037" y="613"/>
                  <a:pt x="978" y="629"/>
                </a:cubicBezTo>
                <a:cubicBezTo>
                  <a:pt x="953" y="663"/>
                  <a:pt x="924" y="685"/>
                  <a:pt x="887" y="705"/>
                </a:cubicBezTo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371280" y="1916280"/>
            <a:ext cx="793080" cy="602280"/>
            <a:chOff x="6371280" y="1916280"/>
            <a:chExt cx="793080" cy="602280"/>
          </a:xfrm>
        </p:grpSpPr>
        <p:sp>
          <p:nvSpPr>
            <p:cNvPr id="559" name=""/>
            <p:cNvSpPr/>
            <p:nvPr/>
          </p:nvSpPr>
          <p:spPr>
            <a:xfrm>
              <a:off x="6386760" y="1944360"/>
              <a:ext cx="469440" cy="44856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6705360" y="1905840"/>
              <a:ext cx="448560" cy="46944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6371280" y="2056320"/>
              <a:ext cx="749880" cy="462240"/>
              <a:chOff x="6371280" y="2056320"/>
              <a:chExt cx="749880" cy="462240"/>
            </a:xfrm>
          </p:grpSpPr>
          <p:sp>
            <p:nvSpPr>
              <p:cNvPr id="562" name=""/>
              <p:cNvSpPr/>
              <p:nvPr/>
            </p:nvSpPr>
            <p:spPr>
              <a:xfrm>
                <a:off x="6577560" y="2126160"/>
                <a:ext cx="337680" cy="322200"/>
              </a:xfrm>
              <a:prstGeom prst="smileyFace">
                <a:avLst>
                  <a:gd name="adj" fmla="val 9282"/>
                </a:avLst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65760" y="2224440"/>
                <a:ext cx="43920" cy="417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83480" y="2224440"/>
                <a:ext cx="43920" cy="417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460200" y="2406600"/>
                <a:ext cx="249480" cy="111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83480" y="2406600"/>
                <a:ext cx="249480" cy="111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563600">
                <a:off x="6372000" y="2210040"/>
                <a:ext cx="220320" cy="558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9876200">
                <a:off x="6900840" y="2210400"/>
                <a:ext cx="220320" cy="558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680160" y="2056320"/>
                <a:ext cx="58680" cy="1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635880" y="2070000"/>
                <a:ext cx="58680" cy="1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709680" y="2056320"/>
                <a:ext cx="58680" cy="1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768000" y="2056320"/>
                <a:ext cx="58680" cy="1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811920" y="2070000"/>
                <a:ext cx="58680" cy="1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694920" y="2280600"/>
                <a:ext cx="102600" cy="41760"/>
              </a:xfrm>
              <a:prstGeom prst="ellipse">
                <a:avLst/>
              </a:prstGeom>
              <a:solidFill>
                <a:srgbClr val="f6a8c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492360" y="2997360"/>
            <a:ext cx="2664000" cy="2232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5280" y="1700280"/>
            <a:ext cx="194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м она вдруг стала пузырем. Ее ждал радушный прием, и она отдыхала в компании друз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3775320" y="3213000"/>
            <a:ext cx="2164680" cy="1722240"/>
            <a:chOff x="3775320" y="3213000"/>
            <a:chExt cx="2164680" cy="1722240"/>
          </a:xfrm>
        </p:grpSpPr>
        <p:sp>
          <p:nvSpPr>
            <p:cNvPr id="578" name=""/>
            <p:cNvSpPr/>
            <p:nvPr/>
          </p:nvSpPr>
          <p:spPr>
            <a:xfrm>
              <a:off x="3819600" y="3293280"/>
              <a:ext cx="1280160" cy="128088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4659120" y="3213360"/>
              <a:ext cx="1281240" cy="128016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3775320" y="3613680"/>
              <a:ext cx="2047680" cy="1321560"/>
              <a:chOff x="3775320" y="3613680"/>
              <a:chExt cx="2047680" cy="1321560"/>
            </a:xfrm>
          </p:grpSpPr>
          <p:sp>
            <p:nvSpPr>
              <p:cNvPr id="581" name=""/>
              <p:cNvSpPr/>
              <p:nvPr/>
            </p:nvSpPr>
            <p:spPr>
              <a:xfrm>
                <a:off x="4340160" y="3813840"/>
                <a:ext cx="920520" cy="920880"/>
              </a:xfrm>
              <a:prstGeom prst="smileyFace">
                <a:avLst>
                  <a:gd name="adj" fmla="val 9282"/>
                </a:avLst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80280" y="409392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00680" y="4093920"/>
                <a:ext cx="11952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020120" y="4614840"/>
                <a:ext cx="68040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00680" y="4614840"/>
                <a:ext cx="68004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563600">
                <a:off x="3779640" y="405432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9876200">
                <a:off x="5220720" y="405396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619880" y="3613680"/>
                <a:ext cx="16056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4499640" y="3653280"/>
                <a:ext cx="16020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4700160" y="361368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4859640" y="361368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4979880" y="3653280"/>
                <a:ext cx="16056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659840" y="4254480"/>
                <a:ext cx="280440" cy="119880"/>
              </a:xfrm>
              <a:prstGeom prst="ellipse">
                <a:avLst/>
              </a:prstGeom>
              <a:solidFill>
                <a:srgbClr val="f6a8c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"/>
          <p:cNvGrpSpPr/>
          <p:nvPr/>
        </p:nvGrpSpPr>
        <p:grpSpPr>
          <a:xfrm>
            <a:off x="5934960" y="3500280"/>
            <a:ext cx="2388240" cy="1541160"/>
            <a:chOff x="5934960" y="3500280"/>
            <a:chExt cx="2388240" cy="1541160"/>
          </a:xfrm>
        </p:grpSpPr>
        <p:sp>
          <p:nvSpPr>
            <p:cNvPr id="595" name=""/>
            <p:cNvSpPr/>
            <p:nvPr/>
          </p:nvSpPr>
          <p:spPr>
            <a:xfrm>
              <a:off x="6593760" y="3733920"/>
              <a:ext cx="1073520" cy="107388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3840" y="406044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47520" y="406044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20080" y="4667760"/>
              <a:ext cx="79344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47520" y="4667760"/>
              <a:ext cx="79308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563600">
              <a:off x="5940000" y="401400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9876200">
              <a:off x="7620840" y="401364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919920" y="3500280"/>
              <a:ext cx="18720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6779880" y="3546720"/>
              <a:ext cx="18684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7013520" y="350028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199640" y="350028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7339680" y="3546720"/>
              <a:ext cx="18720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6360" y="4247640"/>
              <a:ext cx="326880" cy="139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326600" y="3716280"/>
            <a:ext cx="2387880" cy="1541160"/>
            <a:chOff x="1326600" y="3716280"/>
            <a:chExt cx="2387880" cy="1541160"/>
          </a:xfrm>
        </p:grpSpPr>
        <p:sp>
          <p:nvSpPr>
            <p:cNvPr id="609" name=""/>
            <p:cNvSpPr/>
            <p:nvPr/>
          </p:nvSpPr>
          <p:spPr>
            <a:xfrm>
              <a:off x="1985040" y="3949920"/>
              <a:ext cx="1073160" cy="107388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265120" y="427644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38800" y="427644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11720" y="4883760"/>
              <a:ext cx="79308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38800" y="4883760"/>
              <a:ext cx="79308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563600">
              <a:off x="1331640" y="423000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9876200">
              <a:off x="3012120" y="422964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11560" y="3716280"/>
              <a:ext cx="18720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2171160" y="3762720"/>
              <a:ext cx="18684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2404800" y="371628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2591280" y="371628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2731320" y="3762720"/>
              <a:ext cx="18720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58000" y="4463640"/>
              <a:ext cx="326880" cy="139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405880" y="4724280"/>
            <a:ext cx="2388240" cy="1541160"/>
            <a:chOff x="2405880" y="4724280"/>
            <a:chExt cx="2388240" cy="1541160"/>
          </a:xfrm>
        </p:grpSpPr>
        <p:sp>
          <p:nvSpPr>
            <p:cNvPr id="623" name=""/>
            <p:cNvSpPr/>
            <p:nvPr/>
          </p:nvSpPr>
          <p:spPr>
            <a:xfrm>
              <a:off x="3064680" y="4957920"/>
              <a:ext cx="1073520" cy="107388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44760" y="528444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18440" y="528444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91000" y="5891760"/>
              <a:ext cx="79344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18440" y="5891760"/>
              <a:ext cx="79308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563600">
              <a:off x="2410920" y="523800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19876200">
              <a:off x="4091760" y="523764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3390840" y="4724280"/>
              <a:ext cx="18720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3250800" y="4770720"/>
              <a:ext cx="18684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484440" y="472428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3670560" y="472428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810600" y="4770720"/>
              <a:ext cx="18720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37280" y="5471640"/>
              <a:ext cx="326880" cy="139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287320" y="4508640"/>
            <a:ext cx="2388240" cy="1541160"/>
            <a:chOff x="5287320" y="4508640"/>
            <a:chExt cx="2388240" cy="1541160"/>
          </a:xfrm>
        </p:grpSpPr>
        <p:sp>
          <p:nvSpPr>
            <p:cNvPr id="637" name=""/>
            <p:cNvSpPr/>
            <p:nvPr/>
          </p:nvSpPr>
          <p:spPr>
            <a:xfrm>
              <a:off x="5946120" y="4742280"/>
              <a:ext cx="1073520" cy="107388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26200" y="506844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599880" y="506844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72440" y="5676120"/>
              <a:ext cx="79344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99880" y="5676120"/>
              <a:ext cx="79308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563600">
              <a:off x="5292360" y="502236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9876200">
              <a:off x="6973200" y="502200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272280" y="4508640"/>
              <a:ext cx="18720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6132240" y="4555080"/>
              <a:ext cx="18684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6365880" y="450864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6552000" y="450864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92040" y="4555080"/>
              <a:ext cx="18720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18720" y="5256000"/>
              <a:ext cx="326880" cy="139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5287320" y="1916280"/>
            <a:ext cx="2388240" cy="1541160"/>
            <a:chOff x="5287320" y="1916280"/>
            <a:chExt cx="2388240" cy="1541160"/>
          </a:xfrm>
        </p:grpSpPr>
        <p:sp>
          <p:nvSpPr>
            <p:cNvPr id="651" name=""/>
            <p:cNvSpPr/>
            <p:nvPr/>
          </p:nvSpPr>
          <p:spPr>
            <a:xfrm>
              <a:off x="5946120" y="2149920"/>
              <a:ext cx="1073520" cy="107388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26200" y="247608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99880" y="247608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72440" y="3083760"/>
              <a:ext cx="79344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99880" y="3083760"/>
              <a:ext cx="79308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563600">
              <a:off x="5292360" y="243000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9876200">
              <a:off x="6973200" y="242964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272280" y="1916280"/>
              <a:ext cx="18720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132240" y="1962720"/>
              <a:ext cx="18684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365880" y="191628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552000" y="191628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6692040" y="1962720"/>
              <a:ext cx="18720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318720" y="2663640"/>
              <a:ext cx="326880" cy="139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3558600" y="1268280"/>
            <a:ext cx="2387880" cy="1541160"/>
            <a:chOff x="3558600" y="1268280"/>
            <a:chExt cx="2387880" cy="1541160"/>
          </a:xfrm>
        </p:grpSpPr>
        <p:sp>
          <p:nvSpPr>
            <p:cNvPr id="665" name=""/>
            <p:cNvSpPr/>
            <p:nvPr/>
          </p:nvSpPr>
          <p:spPr>
            <a:xfrm>
              <a:off x="4217040" y="1501920"/>
              <a:ext cx="1073160" cy="107388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497120" y="182844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70800" y="182844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43720" y="2435760"/>
              <a:ext cx="79308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70800" y="2435760"/>
              <a:ext cx="79308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563600">
              <a:off x="3563640" y="178200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9876200">
              <a:off x="5244120" y="178164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4543560" y="1268280"/>
              <a:ext cx="18720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403160" y="1314720"/>
              <a:ext cx="18684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4636800" y="126828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4823280" y="126828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4963320" y="1314720"/>
              <a:ext cx="18720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90000" y="2015640"/>
              <a:ext cx="326880" cy="139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045520" y="2060640"/>
            <a:ext cx="2388240" cy="1541160"/>
            <a:chOff x="2045520" y="2060640"/>
            <a:chExt cx="2388240" cy="1541160"/>
          </a:xfrm>
        </p:grpSpPr>
        <p:sp>
          <p:nvSpPr>
            <p:cNvPr id="679" name=""/>
            <p:cNvSpPr/>
            <p:nvPr/>
          </p:nvSpPr>
          <p:spPr>
            <a:xfrm>
              <a:off x="2704320" y="2294280"/>
              <a:ext cx="1073520" cy="107388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84400" y="262080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58080" y="2620800"/>
              <a:ext cx="139680" cy="140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30640" y="3228120"/>
              <a:ext cx="79344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8080" y="3228120"/>
              <a:ext cx="793080" cy="373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563600">
              <a:off x="2050560" y="257436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9876200">
              <a:off x="3731400" y="2574000"/>
              <a:ext cx="700560" cy="18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030480" y="2060640"/>
              <a:ext cx="18720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890440" y="2107080"/>
              <a:ext cx="18684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124080" y="206064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3310200" y="2060640"/>
              <a:ext cx="186840" cy="37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3450240" y="2107080"/>
              <a:ext cx="18720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76920" y="2808000"/>
              <a:ext cx="326880" cy="139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468360" y="1197000"/>
            <a:ext cx="1942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том молекула воздуха отправилась в мир твердых тел, но там ее встретили с меньшей охотой, потому что она была выше твердых молекул и ей все завидовали, ведь она умела ЛЕТАТЬ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935680" y="476280"/>
            <a:ext cx="2164680" cy="1722240"/>
            <a:chOff x="5935680" y="476280"/>
            <a:chExt cx="2164680" cy="1722240"/>
          </a:xfrm>
        </p:grpSpPr>
        <p:sp>
          <p:nvSpPr>
            <p:cNvPr id="694" name=""/>
            <p:cNvSpPr/>
            <p:nvPr/>
          </p:nvSpPr>
          <p:spPr>
            <a:xfrm>
              <a:off x="5979960" y="556560"/>
              <a:ext cx="1280520" cy="128052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5400000">
              <a:off x="6819480" y="476280"/>
              <a:ext cx="1280880" cy="128052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5935680" y="876960"/>
              <a:ext cx="2047680" cy="1321560"/>
              <a:chOff x="5935680" y="876960"/>
              <a:chExt cx="2047680" cy="1321560"/>
            </a:xfrm>
          </p:grpSpPr>
          <p:sp>
            <p:nvSpPr>
              <p:cNvPr id="697" name=""/>
              <p:cNvSpPr/>
              <p:nvPr/>
            </p:nvSpPr>
            <p:spPr>
              <a:xfrm>
                <a:off x="6500520" y="1077120"/>
                <a:ext cx="920520" cy="920880"/>
              </a:xfrm>
              <a:prstGeom prst="smileyFace">
                <a:avLst>
                  <a:gd name="adj" fmla="val 9282"/>
                </a:avLst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741000" y="135720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61400" y="135720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80480" y="1878120"/>
                <a:ext cx="68040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61400" y="1878120"/>
                <a:ext cx="68004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563600">
                <a:off x="5940000" y="131760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6200">
                <a:off x="7381080" y="131724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780600" y="876960"/>
                <a:ext cx="16056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6660360" y="916560"/>
                <a:ext cx="16020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6860520" y="87696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7020360" y="87696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7140600" y="916560"/>
                <a:ext cx="16056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820200" y="1517760"/>
                <a:ext cx="280440" cy="119880"/>
              </a:xfrm>
              <a:prstGeom prst="ellipse">
                <a:avLst/>
              </a:prstGeom>
              <a:solidFill>
                <a:srgbClr val="f6a8c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0" name=""/>
          <p:cNvGrpSpPr/>
          <p:nvPr/>
        </p:nvGrpSpPr>
        <p:grpSpPr>
          <a:xfrm>
            <a:off x="3990960" y="4508640"/>
            <a:ext cx="2049120" cy="1321920"/>
            <a:chOff x="3990960" y="4508640"/>
            <a:chExt cx="2049120" cy="1321920"/>
          </a:xfrm>
        </p:grpSpPr>
        <p:sp>
          <p:nvSpPr>
            <p:cNvPr id="711" name=""/>
            <p:cNvSpPr/>
            <p:nvPr/>
          </p:nvSpPr>
          <p:spPr>
            <a:xfrm>
              <a:off x="4556160" y="4708800"/>
              <a:ext cx="920880" cy="921240"/>
            </a:xfrm>
            <a:prstGeom prst="smileyFace">
              <a:avLst>
                <a:gd name="adj" fmla="val 9282"/>
              </a:avLst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96640" y="498888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17040" y="498888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235760" y="5510160"/>
              <a:ext cx="680760" cy="3204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17040" y="5510160"/>
              <a:ext cx="680400" cy="3204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563600">
              <a:off x="3995280" y="494928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9876200">
              <a:off x="5437080" y="494928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836240" y="450864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4716360" y="454824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4916520" y="450864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076360" y="450864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5196600" y="454824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876200" y="5149800"/>
              <a:ext cx="28044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119320" y="5229360"/>
            <a:ext cx="2049120" cy="1321920"/>
            <a:chOff x="2119320" y="5229360"/>
            <a:chExt cx="2049120" cy="1321920"/>
          </a:xfrm>
        </p:grpSpPr>
        <p:sp>
          <p:nvSpPr>
            <p:cNvPr id="725" name=""/>
            <p:cNvSpPr/>
            <p:nvPr/>
          </p:nvSpPr>
          <p:spPr>
            <a:xfrm>
              <a:off x="2684520" y="5429520"/>
              <a:ext cx="920880" cy="921240"/>
            </a:xfrm>
            <a:prstGeom prst="smileyFace">
              <a:avLst>
                <a:gd name="adj" fmla="val 9282"/>
              </a:avLst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925000" y="570960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245400" y="570960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364120" y="6230880"/>
              <a:ext cx="680760" cy="3204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45400" y="6230880"/>
              <a:ext cx="680400" cy="3204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563600">
              <a:off x="2123640" y="567000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9876200">
              <a:off x="3565440" y="567000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2964600" y="52293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2844720" y="52689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3044880" y="52293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3204720" y="52293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3324960" y="52689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004560" y="5870520"/>
              <a:ext cx="28044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990960" y="3213000"/>
            <a:ext cx="2049120" cy="1322640"/>
            <a:chOff x="3990960" y="3213000"/>
            <a:chExt cx="2049120" cy="1322640"/>
          </a:xfrm>
        </p:grpSpPr>
        <p:sp>
          <p:nvSpPr>
            <p:cNvPr id="739" name=""/>
            <p:cNvSpPr/>
            <p:nvPr/>
          </p:nvSpPr>
          <p:spPr>
            <a:xfrm>
              <a:off x="4556160" y="3413520"/>
              <a:ext cx="920880" cy="921600"/>
            </a:xfrm>
            <a:prstGeom prst="smileyFace">
              <a:avLst>
                <a:gd name="adj" fmla="val 9282"/>
              </a:avLst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96640" y="369360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17040" y="369360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35760" y="4214880"/>
              <a:ext cx="680760" cy="3207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17040" y="4214880"/>
              <a:ext cx="680400" cy="3207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563600">
              <a:off x="3995280" y="365400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9876200">
              <a:off x="5437080" y="365400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836240" y="3213000"/>
              <a:ext cx="160560" cy="32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716360" y="325260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916520" y="3213000"/>
              <a:ext cx="160560" cy="32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5076360" y="3213000"/>
              <a:ext cx="160560" cy="32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5196600" y="325260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76200" y="3854520"/>
              <a:ext cx="28044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143680" y="5373720"/>
            <a:ext cx="2049120" cy="1321920"/>
            <a:chOff x="5143680" y="5373720"/>
            <a:chExt cx="2049120" cy="1321920"/>
          </a:xfrm>
        </p:grpSpPr>
        <p:sp>
          <p:nvSpPr>
            <p:cNvPr id="753" name=""/>
            <p:cNvSpPr/>
            <p:nvPr/>
          </p:nvSpPr>
          <p:spPr>
            <a:xfrm>
              <a:off x="5708880" y="5573880"/>
              <a:ext cx="920880" cy="921240"/>
            </a:xfrm>
            <a:prstGeom prst="smileyFace">
              <a:avLst>
                <a:gd name="adj" fmla="val 9282"/>
              </a:avLst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49000" y="58539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69760" y="58539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88480" y="6375240"/>
              <a:ext cx="680760" cy="3204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69760" y="6375240"/>
              <a:ext cx="680400" cy="3204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563600">
              <a:off x="5148000" y="581436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9876200">
              <a:off x="6589800" y="581436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5988600" y="537372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868720" y="541332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069240" y="537372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6229080" y="537372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348960" y="541332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28560" y="6014880"/>
              <a:ext cx="28044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6728040" y="3789360"/>
            <a:ext cx="2049120" cy="1321920"/>
            <a:chOff x="6728040" y="3789360"/>
            <a:chExt cx="2049120" cy="1321920"/>
          </a:xfrm>
        </p:grpSpPr>
        <p:sp>
          <p:nvSpPr>
            <p:cNvPr id="767" name=""/>
            <p:cNvSpPr/>
            <p:nvPr/>
          </p:nvSpPr>
          <p:spPr>
            <a:xfrm>
              <a:off x="7293240" y="3989520"/>
              <a:ext cx="920880" cy="921240"/>
            </a:xfrm>
            <a:prstGeom prst="smileyFace">
              <a:avLst>
                <a:gd name="adj" fmla="val 9282"/>
              </a:avLst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33360" y="426960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854120" y="426960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72840" y="4790880"/>
              <a:ext cx="680760" cy="3204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854120" y="4790880"/>
              <a:ext cx="680400" cy="3204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563600">
              <a:off x="6732360" y="423000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9876200">
              <a:off x="8174160" y="423000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572960" y="37893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7453080" y="38289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653600" y="37893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813440" y="37893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933320" y="38289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612920" y="4430520"/>
              <a:ext cx="28044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5719680" y="4005360"/>
            <a:ext cx="2049120" cy="1321920"/>
            <a:chOff x="5719680" y="4005360"/>
            <a:chExt cx="2049120" cy="1321920"/>
          </a:xfrm>
        </p:grpSpPr>
        <p:sp>
          <p:nvSpPr>
            <p:cNvPr id="781" name=""/>
            <p:cNvSpPr/>
            <p:nvPr/>
          </p:nvSpPr>
          <p:spPr>
            <a:xfrm>
              <a:off x="6284880" y="4205520"/>
              <a:ext cx="920880" cy="921240"/>
            </a:xfrm>
            <a:prstGeom prst="smileyFace">
              <a:avLst>
                <a:gd name="adj" fmla="val 9282"/>
              </a:avLst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25360" y="448560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845760" y="448560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964480" y="5006880"/>
              <a:ext cx="680760" cy="3204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845760" y="5006880"/>
              <a:ext cx="680400" cy="3204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63600">
              <a:off x="5724000" y="444600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9876200">
              <a:off x="7165800" y="444600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564960" y="40053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445080" y="40449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645240" y="40053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805080" y="40053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925320" y="40449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04920" y="4646520"/>
              <a:ext cx="28044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335320" y="3933720"/>
            <a:ext cx="2049120" cy="1322640"/>
            <a:chOff x="2335320" y="3933720"/>
            <a:chExt cx="2049120" cy="1322640"/>
          </a:xfrm>
        </p:grpSpPr>
        <p:sp>
          <p:nvSpPr>
            <p:cNvPr id="795" name=""/>
            <p:cNvSpPr/>
            <p:nvPr/>
          </p:nvSpPr>
          <p:spPr>
            <a:xfrm>
              <a:off x="2900520" y="4134240"/>
              <a:ext cx="920880" cy="921600"/>
            </a:xfrm>
            <a:prstGeom prst="smileyFace">
              <a:avLst>
                <a:gd name="adj" fmla="val 9282"/>
              </a:avLst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40640" y="441432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61400" y="441432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80120" y="4935600"/>
              <a:ext cx="680760" cy="3207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61400" y="4935600"/>
              <a:ext cx="680400" cy="3207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563600">
              <a:off x="2339640" y="437472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9876200">
              <a:off x="3781440" y="437472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180240" y="3933720"/>
              <a:ext cx="160560" cy="32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060360" y="397332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260880" y="3933720"/>
              <a:ext cx="160560" cy="32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420720" y="3933720"/>
              <a:ext cx="160560" cy="32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40600" y="397332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20200" y="4575240"/>
              <a:ext cx="28044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6872400" y="5229360"/>
            <a:ext cx="2049120" cy="1321920"/>
            <a:chOff x="6872400" y="5229360"/>
            <a:chExt cx="2049120" cy="1321920"/>
          </a:xfrm>
        </p:grpSpPr>
        <p:sp>
          <p:nvSpPr>
            <p:cNvPr id="809" name=""/>
            <p:cNvSpPr/>
            <p:nvPr/>
          </p:nvSpPr>
          <p:spPr>
            <a:xfrm>
              <a:off x="7437600" y="5429520"/>
              <a:ext cx="920880" cy="921240"/>
            </a:xfrm>
            <a:prstGeom prst="smileyFace">
              <a:avLst>
                <a:gd name="adj" fmla="val 9282"/>
              </a:avLst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77720" y="570960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98480" y="5709600"/>
              <a:ext cx="11988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117200" y="6230880"/>
              <a:ext cx="680760" cy="3204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98480" y="6230880"/>
              <a:ext cx="680400" cy="3204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563600">
              <a:off x="6876720" y="567000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9876200">
              <a:off x="8318520" y="5670000"/>
              <a:ext cx="601200" cy="1598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717320" y="52293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597440" y="52689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7797960" y="52293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7957800" y="52293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077680" y="5268960"/>
              <a:ext cx="16056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57280" y="5870520"/>
              <a:ext cx="280440" cy="1198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2" name=""/>
          <p:cNvSpPr txBox="1"/>
          <p:nvPr/>
        </p:nvSpPr>
        <p:spPr>
          <a:xfrm>
            <a:off x="2987640" y="0"/>
            <a:ext cx="295272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лава треть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250920" y="1484280"/>
            <a:ext cx="21603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вот пришел час  молекулу воздуха принесло обратно домой попутным вет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родичи были очень рады возвращению своей сестры, а она рассказала им про других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2700360" y="338040"/>
            <a:ext cx="3816360" cy="14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лава четверт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4351320" y="1773360"/>
            <a:ext cx="2164680" cy="1722240"/>
            <a:chOff x="4351320" y="1773360"/>
            <a:chExt cx="2164680" cy="1722240"/>
          </a:xfrm>
        </p:grpSpPr>
        <p:sp>
          <p:nvSpPr>
            <p:cNvPr id="826" name=""/>
            <p:cNvSpPr/>
            <p:nvPr/>
          </p:nvSpPr>
          <p:spPr>
            <a:xfrm>
              <a:off x="4395600" y="1853640"/>
              <a:ext cx="1280520" cy="128052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5400000">
              <a:off x="5235120" y="1773360"/>
              <a:ext cx="1280880" cy="128052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4351320" y="2174040"/>
              <a:ext cx="2047680" cy="1321560"/>
              <a:chOff x="4351320" y="2174040"/>
              <a:chExt cx="2047680" cy="1321560"/>
            </a:xfrm>
          </p:grpSpPr>
          <p:sp>
            <p:nvSpPr>
              <p:cNvPr id="829" name=""/>
              <p:cNvSpPr/>
              <p:nvPr/>
            </p:nvSpPr>
            <p:spPr>
              <a:xfrm>
                <a:off x="4916160" y="2374200"/>
                <a:ext cx="920520" cy="920880"/>
              </a:xfrm>
              <a:prstGeom prst="smileyFace">
                <a:avLst>
                  <a:gd name="adj" fmla="val 9282"/>
                </a:avLst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56640" y="265428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477040" y="265428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596120" y="3175200"/>
                <a:ext cx="68040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77040" y="3175200"/>
                <a:ext cx="68004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563600">
                <a:off x="4355640" y="261468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9876200">
                <a:off x="5796720" y="261432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5196240" y="2174040"/>
                <a:ext cx="16056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5076000" y="2213640"/>
                <a:ext cx="16020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5276160" y="217404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5436000" y="217404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5556240" y="2213640"/>
                <a:ext cx="16056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35840" y="2814840"/>
                <a:ext cx="280440" cy="119880"/>
              </a:xfrm>
              <a:prstGeom prst="ellipse">
                <a:avLst/>
              </a:prstGeom>
              <a:solidFill>
                <a:srgbClr val="f6a8c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2" name=""/>
          <p:cNvGrpSpPr/>
          <p:nvPr/>
        </p:nvGrpSpPr>
        <p:grpSpPr>
          <a:xfrm>
            <a:off x="3559320" y="4869000"/>
            <a:ext cx="2164680" cy="1722240"/>
            <a:chOff x="3559320" y="4869000"/>
            <a:chExt cx="2164680" cy="1722240"/>
          </a:xfrm>
        </p:grpSpPr>
        <p:sp>
          <p:nvSpPr>
            <p:cNvPr id="843" name=""/>
            <p:cNvSpPr/>
            <p:nvPr/>
          </p:nvSpPr>
          <p:spPr>
            <a:xfrm>
              <a:off x="3603600" y="4949280"/>
              <a:ext cx="1280160" cy="128052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5400000">
              <a:off x="4443480" y="4869360"/>
              <a:ext cx="1280880" cy="128016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3559320" y="5269680"/>
              <a:ext cx="2047680" cy="1321560"/>
              <a:chOff x="3559320" y="5269680"/>
              <a:chExt cx="2047680" cy="1321560"/>
            </a:xfrm>
          </p:grpSpPr>
          <p:sp>
            <p:nvSpPr>
              <p:cNvPr id="846" name=""/>
              <p:cNvSpPr/>
              <p:nvPr/>
            </p:nvSpPr>
            <p:spPr>
              <a:xfrm>
                <a:off x="4124160" y="5469840"/>
                <a:ext cx="920520" cy="920880"/>
              </a:xfrm>
              <a:prstGeom prst="smileyFace">
                <a:avLst>
                  <a:gd name="adj" fmla="val 9282"/>
                </a:avLst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364280" y="574992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684680" y="5749920"/>
                <a:ext cx="11952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804120" y="6270840"/>
                <a:ext cx="68040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684680" y="6270840"/>
                <a:ext cx="68004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563600">
                <a:off x="3563640" y="571032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9876200">
                <a:off x="5004720" y="570996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4403880" y="5269680"/>
                <a:ext cx="16056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4283640" y="5309280"/>
                <a:ext cx="16020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4484160" y="526968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4643640" y="526968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4763880" y="5309280"/>
                <a:ext cx="16056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443840" y="5910480"/>
                <a:ext cx="280440" cy="119880"/>
              </a:xfrm>
              <a:prstGeom prst="ellipse">
                <a:avLst/>
              </a:prstGeom>
              <a:solidFill>
                <a:srgbClr val="f6a8c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59" name=""/>
          <p:cNvGrpSpPr/>
          <p:nvPr/>
        </p:nvGrpSpPr>
        <p:grpSpPr>
          <a:xfrm>
            <a:off x="4711680" y="4581360"/>
            <a:ext cx="2164680" cy="1722240"/>
            <a:chOff x="4711680" y="4581360"/>
            <a:chExt cx="2164680" cy="1722240"/>
          </a:xfrm>
        </p:grpSpPr>
        <p:sp>
          <p:nvSpPr>
            <p:cNvPr id="860" name=""/>
            <p:cNvSpPr/>
            <p:nvPr/>
          </p:nvSpPr>
          <p:spPr>
            <a:xfrm>
              <a:off x="4755960" y="4661640"/>
              <a:ext cx="1280520" cy="128088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5400000">
              <a:off x="5595480" y="4581720"/>
              <a:ext cx="1281240" cy="128052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4711680" y="4982040"/>
              <a:ext cx="2047680" cy="1321560"/>
              <a:chOff x="4711680" y="4982040"/>
              <a:chExt cx="2047680" cy="1321560"/>
            </a:xfrm>
          </p:grpSpPr>
          <p:sp>
            <p:nvSpPr>
              <p:cNvPr id="863" name=""/>
              <p:cNvSpPr/>
              <p:nvPr/>
            </p:nvSpPr>
            <p:spPr>
              <a:xfrm>
                <a:off x="5276520" y="5182200"/>
                <a:ext cx="920520" cy="920880"/>
              </a:xfrm>
              <a:prstGeom prst="smileyFace">
                <a:avLst>
                  <a:gd name="adj" fmla="val 9282"/>
                </a:avLst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517000" y="546228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837400" y="546228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956480" y="5983200"/>
                <a:ext cx="68040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37400" y="5983200"/>
                <a:ext cx="68004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63600">
                <a:off x="4716000" y="542268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9876200">
                <a:off x="6157080" y="542232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5556600" y="4982040"/>
                <a:ext cx="16056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5436360" y="5021640"/>
                <a:ext cx="16020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5636520" y="498204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5796360" y="498204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5916600" y="5021640"/>
                <a:ext cx="16056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596200" y="5622840"/>
                <a:ext cx="280440" cy="119880"/>
              </a:xfrm>
              <a:prstGeom prst="ellipse">
                <a:avLst/>
              </a:prstGeom>
              <a:solidFill>
                <a:srgbClr val="f6a8c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76" name=""/>
          <p:cNvGrpSpPr/>
          <p:nvPr/>
        </p:nvGrpSpPr>
        <p:grpSpPr>
          <a:xfrm>
            <a:off x="6799320" y="4221000"/>
            <a:ext cx="2164680" cy="1722240"/>
            <a:chOff x="6799320" y="4221000"/>
            <a:chExt cx="2164680" cy="1722240"/>
          </a:xfrm>
        </p:grpSpPr>
        <p:sp>
          <p:nvSpPr>
            <p:cNvPr id="877" name=""/>
            <p:cNvSpPr/>
            <p:nvPr/>
          </p:nvSpPr>
          <p:spPr>
            <a:xfrm>
              <a:off x="6843600" y="4301280"/>
              <a:ext cx="1280520" cy="128088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5400000">
              <a:off x="7683120" y="4221360"/>
              <a:ext cx="1281240" cy="128052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6799320" y="4621680"/>
              <a:ext cx="2047680" cy="1321560"/>
              <a:chOff x="6799320" y="4621680"/>
              <a:chExt cx="2047680" cy="1321560"/>
            </a:xfrm>
          </p:grpSpPr>
          <p:sp>
            <p:nvSpPr>
              <p:cNvPr id="880" name=""/>
              <p:cNvSpPr/>
              <p:nvPr/>
            </p:nvSpPr>
            <p:spPr>
              <a:xfrm>
                <a:off x="7364160" y="4821840"/>
                <a:ext cx="920520" cy="920880"/>
              </a:xfrm>
              <a:prstGeom prst="smileyFace">
                <a:avLst>
                  <a:gd name="adj" fmla="val 9282"/>
                </a:avLst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604640" y="510192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925040" y="510192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044120" y="5622840"/>
                <a:ext cx="68040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925040" y="5622840"/>
                <a:ext cx="68004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563600">
                <a:off x="6803640" y="506232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9876200">
                <a:off x="8244720" y="506196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7644240" y="4621680"/>
                <a:ext cx="16056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7524000" y="4661280"/>
                <a:ext cx="16020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7724160" y="462168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7884000" y="462168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8004240" y="4661280"/>
                <a:ext cx="16056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683840" y="5262480"/>
                <a:ext cx="280440" cy="119880"/>
              </a:xfrm>
              <a:prstGeom prst="ellipse">
                <a:avLst/>
              </a:prstGeom>
              <a:solidFill>
                <a:srgbClr val="f6a8c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93" name=""/>
          <p:cNvGrpSpPr/>
          <p:nvPr/>
        </p:nvGrpSpPr>
        <p:grpSpPr>
          <a:xfrm>
            <a:off x="1974960" y="4724280"/>
            <a:ext cx="2164680" cy="1722240"/>
            <a:chOff x="1974960" y="4724280"/>
            <a:chExt cx="2164680" cy="1722240"/>
          </a:xfrm>
        </p:grpSpPr>
        <p:sp>
          <p:nvSpPr>
            <p:cNvPr id="894" name=""/>
            <p:cNvSpPr/>
            <p:nvPr/>
          </p:nvSpPr>
          <p:spPr>
            <a:xfrm>
              <a:off x="2019240" y="4804560"/>
              <a:ext cx="1280520" cy="128088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5400000">
              <a:off x="2858760" y="4724640"/>
              <a:ext cx="1281240" cy="128052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1974960" y="5124960"/>
              <a:ext cx="2047680" cy="1321560"/>
              <a:chOff x="1974960" y="5124960"/>
              <a:chExt cx="2047680" cy="1321560"/>
            </a:xfrm>
          </p:grpSpPr>
          <p:sp>
            <p:nvSpPr>
              <p:cNvPr id="897" name=""/>
              <p:cNvSpPr/>
              <p:nvPr/>
            </p:nvSpPr>
            <p:spPr>
              <a:xfrm>
                <a:off x="2539800" y="5325120"/>
                <a:ext cx="920520" cy="920880"/>
              </a:xfrm>
              <a:prstGeom prst="smileyFace">
                <a:avLst>
                  <a:gd name="adj" fmla="val 9282"/>
                </a:avLst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780280" y="560520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100680" y="560520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219760" y="6126120"/>
                <a:ext cx="68040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100680" y="6126120"/>
                <a:ext cx="68004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563600">
                <a:off x="1979280" y="556560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9876200">
                <a:off x="3420360" y="556524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2819880" y="5124960"/>
                <a:ext cx="16056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2699640" y="5164560"/>
                <a:ext cx="16020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2899800" y="512496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3059640" y="512496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3179880" y="5164560"/>
                <a:ext cx="16056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859480" y="5765760"/>
                <a:ext cx="280440" cy="119880"/>
              </a:xfrm>
              <a:prstGeom prst="ellipse">
                <a:avLst/>
              </a:prstGeom>
              <a:solidFill>
                <a:srgbClr val="f6a8c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2050920" y="2276640"/>
            <a:ext cx="4256280" cy="34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4854600" y="981000"/>
            <a:ext cx="2164680" cy="1722240"/>
            <a:chOff x="4854600" y="981000"/>
            <a:chExt cx="2164680" cy="1722240"/>
          </a:xfrm>
        </p:grpSpPr>
        <p:sp>
          <p:nvSpPr>
            <p:cNvPr id="912" name=""/>
            <p:cNvSpPr/>
            <p:nvPr/>
          </p:nvSpPr>
          <p:spPr>
            <a:xfrm>
              <a:off x="4898880" y="1061280"/>
              <a:ext cx="1280520" cy="128088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5400000">
              <a:off x="5738400" y="981000"/>
              <a:ext cx="1281240" cy="128052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4854600" y="1381680"/>
              <a:ext cx="2047680" cy="1321560"/>
              <a:chOff x="4854600" y="1381680"/>
              <a:chExt cx="2047680" cy="1321560"/>
            </a:xfrm>
          </p:grpSpPr>
          <p:sp>
            <p:nvSpPr>
              <p:cNvPr id="915" name=""/>
              <p:cNvSpPr/>
              <p:nvPr/>
            </p:nvSpPr>
            <p:spPr>
              <a:xfrm>
                <a:off x="5419440" y="1581840"/>
                <a:ext cx="920520" cy="920880"/>
              </a:xfrm>
              <a:prstGeom prst="smileyFace">
                <a:avLst>
                  <a:gd name="adj" fmla="val 9282"/>
                </a:avLst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659920" y="186192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980320" y="1861920"/>
                <a:ext cx="119880" cy="1198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99400" y="2382840"/>
                <a:ext cx="68040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980320" y="2382840"/>
                <a:ext cx="680040" cy="32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563600">
                <a:off x="4858920" y="182232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9876200">
                <a:off x="6300000" y="1821960"/>
                <a:ext cx="600840" cy="1594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5699520" y="1381680"/>
                <a:ext cx="16056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5579280" y="1421280"/>
                <a:ext cx="16020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5779440" y="138168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5939280" y="1381680"/>
                <a:ext cx="160200" cy="320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6059520" y="1421280"/>
                <a:ext cx="160560" cy="320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739120" y="2022480"/>
                <a:ext cx="280440" cy="119880"/>
              </a:xfrm>
              <a:prstGeom prst="ellipse">
                <a:avLst/>
              </a:prstGeom>
              <a:solidFill>
                <a:srgbClr val="f6a8c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9:30:58Z</dcterms:created>
  <dc:creator>Владимир Евсюков</dc:creator>
  <dc:description/>
  <dc:language>en-US</dc:language>
  <cp:lastModifiedBy>Владимир Евсюков</cp:lastModifiedBy>
  <dcterms:modified xsi:type="dcterms:W3CDTF">2009-03-26T10:57:57Z</dcterms:modified>
  <cp:revision>2</cp:revision>
  <dc:subject/>
  <dc:title>Слайд 1</dc:title>
</cp:coreProperties>
</file>