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94D4-5DFE-4015-8C0D-9FF7B1D8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71D6-548A-4545-975D-3BEF83EA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B32-0452-49C0-A86A-4C62B69B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3402-D9D5-400C-B695-CCB32610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FE8B2-978B-4A9A-BAB8-97B1252F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B626C-59EB-400F-BF30-D2A84889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BD7BE-DCA0-471B-B045-BD871290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D7518-8367-4C24-BFDD-74C736E7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6E716-6E62-474C-B13C-C09CBB77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2A545-9793-4FD4-AA4B-6260E6AD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CD9FE-E3E7-45FE-B5D6-AEE55715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EFB2-68DC-46AD-9093-9D156C30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7ADF9-6FAA-4B17-A3C9-6F0C7351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1E892-CB50-4847-AFD1-00BD23DE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AC30A-DF7F-4457-B707-B7E1CA57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2D071-04BD-47C1-BE25-7DB002E2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684BD-7F69-4D54-8B1A-D2F4F0CD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205-4E29-448C-9445-0BD0B377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C01-05CC-4528-AECE-287ABD59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127C-A61B-45F7-88F3-779CD497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C962-156A-45ED-B19A-AAFB59FA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68C-0D8B-49F6-A769-7576E460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1AA7-FB6B-4AC5-88FD-C3F9BECF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EBD8-7BE9-47C1-B4BD-CAD7FF1D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E007-D351-469D-BBC5-CE4DE04625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95E3-C320-4C87-AA59-CA91B951A3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2627280" y="2276640"/>
            <a:ext cx="36673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ртфоли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1116000" y="4076640"/>
            <a:ext cx="7286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полнила: До Хонг Нгок, 6 «Б» класс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cccc"/>
                </a:solidFill>
                <a:latin typeface="Tahoma"/>
              </a:rPr>
              <a:t>Моя меч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Я очень хочу стать хорошим детским врачом. Очень люблю детей. Я думаю что работать врачом очень интересно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7" descr="врач"/>
          <p:cNvPicPr/>
          <p:nvPr/>
        </p:nvPicPr>
        <p:blipFill>
          <a:blip r:embed="rId1"/>
          <a:stretch/>
        </p:blipFill>
        <p:spPr>
          <a:xfrm>
            <a:off x="4275000" y="3573360"/>
            <a:ext cx="115740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ff"/>
                </a:solidFill>
                <a:latin typeface="Tahoma"/>
              </a:rPr>
              <a:t>Мои достиж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Tahoma"/>
              </a:rPr>
              <a:t>Я участвовала в конкурсе в 40 лет октября и в ДК Им. Кирова. Я танцевала и наша группа «Грин стрит» получила грамоту и подаро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7" descr="SL380369"/>
          <p:cNvPicPr/>
          <p:nvPr/>
        </p:nvPicPr>
        <p:blipFill>
          <a:blip r:embed="rId1"/>
          <a:stretch/>
        </p:blipFill>
        <p:spPr>
          <a:xfrm>
            <a:off x="3251160" y="190512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07032E-006 C 0.07014 -0.01087 0.19097 -0.13301 0.14497 -0.14666 C 0.09896 -0.1603 -0.25191 -0.10594 -0.27604 -0.08189 C -0.30017 -0.05783 -0.07014 0.01087 2.77778E-007 -2.07032E-006 Z">
                                      <p:cBhvr>
                                        <p:cTn id="16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Tahoma"/>
              </a:rPr>
              <a:t>Мои друзь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ahoma"/>
              </a:rPr>
              <a:t>Мои друзь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ahoma"/>
              </a:rPr>
              <a:t>Силяманова Наст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ahoma"/>
              </a:rPr>
              <a:t>Заичкина Маш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ahoma"/>
              </a:rPr>
              <a:t>Тельнова Лил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ahoma"/>
              </a:rPr>
              <a:t>Салова Кат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ahoma"/>
              </a:rPr>
              <a:t>Володина Ол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055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Моя самая лучшая подруга Гришачева Ками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7" descr="ЮГ 312"/>
          <p:cNvPicPr/>
          <p:nvPr/>
        </p:nvPicPr>
        <p:blipFill>
          <a:blip r:embed="rId1"/>
          <a:stretch/>
        </p:blipFill>
        <p:spPr>
          <a:xfrm>
            <a:off x="5761080" y="2997360"/>
            <a:ext cx="2646360" cy="35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SL380777"/>
          <p:cNvPicPr/>
          <p:nvPr/>
        </p:nvPicPr>
        <p:blipFill>
          <a:blip r:embed="rId2"/>
          <a:stretch/>
        </p:blipFill>
        <p:spPr>
          <a:xfrm>
            <a:off x="900000" y="3716280"/>
            <a:ext cx="381492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171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172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175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85982E-006 C 0.01788 -0.02475 -0.03646 -0.1034 -0.0651 -0.09414 C -0.09375 -0.08489 -0.18281 0.03956 -0.17239 0.05506 C -0.16198 0.07056 -0.01788 0.02475 8.33333E-007 -1.85982E-006 Z">
                                      <p:cBhvr>
                                        <p:cTn id="17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2997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ahoma"/>
              </a:rPr>
              <a:t>Спасибо за внимание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19917E-006 C -0.04392 -0.00879 -0.28872 -0.47838 -0.36302 -0.49387 C -0.43733 -0.50937 -0.50521 -0.22277 -0.44566 -0.09276 C -0.38611 0.03724 -0.10313 0.30673 -0.00538 0.28614 C 0.09253 0.26555 0.15642 -0.09508 0.14062 -0.21629 C 0.12483 -0.3375 -0.07622 -0.47699 -0.09983 -0.44113 C -0.12361 -0.40528 0.04392 0.00879 -1.94444E-006 3.19917E-006 Z">
                                      <p:cBhvr>
                                        <p:cTn id="18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ahoma"/>
              </a:rPr>
              <a:t>Немного о себ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Меня зовут Лена. Мне 12 лет. Я родилась в Пензе и сейчас живу на улице Калинина. Я хожу на английский в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EF Penza</a:t>
            </a: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. Очень люблю танцевать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7" descr="SL380790"/>
          <p:cNvPicPr/>
          <p:nvPr/>
        </p:nvPicPr>
        <p:blipFill>
          <a:blip r:embed="rId1"/>
          <a:stretch/>
        </p:blipFill>
        <p:spPr>
          <a:xfrm>
            <a:off x="933480" y="190512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600"/>
                </a:solidFill>
                <a:latin typeface="Tahoma"/>
              </a:rPr>
              <a:t>Моя семь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905120"/>
          <a:ext cx="8229600" cy="4794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36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Я живу с родителями. У меня есть мама, папа и маленький братик, которому 5 лет. Моего братика зовут Миша. Он ходит в садик. Мою маму зовут Аня, а папу Саша. Они вместе работают в одном магазине. У меня есть бабушка. Она очень добрая. Она все время заботилась обо мне. Мои родители оставляли меня на целый день с бабушкой в будние дни. Я очень люблю своих родителей и бабушку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0" name="Picture 41" descr="SL380109"/>
          <p:cNvPicPr/>
          <p:nvPr/>
        </p:nvPicPr>
        <p:blipFill>
          <a:blip r:embed="rId1"/>
          <a:stretch/>
        </p:blipFill>
        <p:spPr>
          <a:xfrm>
            <a:off x="468360" y="1916280"/>
            <a:ext cx="2735280" cy="2017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8" descr="SL380793"/>
          <p:cNvPicPr/>
          <p:nvPr/>
        </p:nvPicPr>
        <p:blipFill>
          <a:blip r:embed="rId2"/>
          <a:stretch/>
        </p:blipFill>
        <p:spPr>
          <a:xfrm>
            <a:off x="3564000" y="1916280"/>
            <a:ext cx="1871640" cy="2017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9" descr="SL380242"/>
          <p:cNvPicPr/>
          <p:nvPr/>
        </p:nvPicPr>
        <p:blipFill>
          <a:blip r:embed="rId3"/>
          <a:stretch/>
        </p:blipFill>
        <p:spPr>
          <a:xfrm>
            <a:off x="6588000" y="1916280"/>
            <a:ext cx="162576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99ff"/>
                </a:solidFill>
                <a:latin typeface="Tahoma"/>
              </a:rPr>
              <a:t>Мои оцен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cccc"/>
                          </a:solidFill>
                          <a:latin typeface="Tahoma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Литера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cc33"/>
                          </a:solidFill>
                          <a:latin typeface="Tahoma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Музы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ИЗ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Англий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ffff"/>
                          </a:solidFill>
                          <a:latin typeface="Tahoma"/>
                        </a:rPr>
                        <a:t>Технолог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Физкуль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996633"/>
                          </a:solidFill>
                          <a:latin typeface="Tahoma"/>
                        </a:rPr>
                        <a:t>Литер. краевед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Обществозн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Я и спор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ff"/>
                </a:solidFill>
                <a:latin typeface="Tahoma"/>
              </a:rPr>
              <a:t>Я уже почти год хожу на танцы. Я очень люблю танцевать. Наша группа называется «Грин стрит». Я танцую в средней группе. У нас очень добрая учительница. Ее зовут Анастасия Юрьевна. Я думаю что буду ходить на танцы до 11 клас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9" descr="SL380792"/>
          <p:cNvPicPr/>
          <p:nvPr/>
        </p:nvPicPr>
        <p:blipFill>
          <a:blip r:embed="rId1"/>
          <a:stretch/>
        </p:blipFill>
        <p:spPr>
          <a:xfrm>
            <a:off x="5124600" y="190512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cc33"/>
                </a:solidFill>
                <a:latin typeface="Tahoma"/>
              </a:rPr>
              <a:t>Мое хобб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Я очень люблю танцевать. Еще очень люблю читать. Я прочитала очень много книг. Очень люблю читать фантастические книжки, приклютентические, и обожаю детективы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13" descr="SL380769"/>
          <p:cNvPicPr/>
          <p:nvPr/>
        </p:nvPicPr>
        <p:blipFill>
          <a:blip r:embed="rId1"/>
          <a:stretch/>
        </p:blipFill>
        <p:spPr>
          <a:xfrm>
            <a:off x="2627280" y="3789360"/>
            <a:ext cx="35528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ahoma"/>
              </a:rPr>
              <a:t>Я и животн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00"/>
                </a:solidFill>
                <a:latin typeface="Tahoma"/>
              </a:rPr>
              <a:t>Я</a:t>
            </a:r>
            <a:r>
              <a:rPr b="1" i="1" lang="ru-RU" sz="28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cc00"/>
                </a:solidFill>
                <a:latin typeface="Tahoma"/>
              </a:rPr>
              <a:t>люблю кошек, собак, крол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Копия 004"/>
          <p:cNvPicPr/>
          <p:nvPr/>
        </p:nvPicPr>
        <p:blipFill>
          <a:blip r:embed="rId1"/>
          <a:stretch/>
        </p:blipFill>
        <p:spPr>
          <a:xfrm>
            <a:off x="1155600" y="1905120"/>
            <a:ext cx="2640240" cy="198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Кот в раковине"/>
          <p:cNvPicPr/>
          <p:nvPr/>
        </p:nvPicPr>
        <p:blipFill>
          <a:blip r:embed="rId2"/>
          <a:stretch/>
        </p:blipFill>
        <p:spPr>
          <a:xfrm>
            <a:off x="5346720" y="19051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824010"/>
          <p:cNvPicPr/>
          <p:nvPr/>
        </p:nvPicPr>
        <p:blipFill>
          <a:blip r:embed="rId3"/>
          <a:stretch/>
        </p:blipFill>
        <p:spPr>
          <a:xfrm>
            <a:off x="3132000" y="4508640"/>
            <a:ext cx="15670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50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84" dur="50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8,0)"/>
                                      </p:to>
                                    </p:set>
                                    <p:set>
                                      <p:cBhvr>
                                        <p:cTn id="85" dur="50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900"/>
                            </p:stCondLst>
                            <p:childTnLst>
                              <p:par>
                                <p:cTn id="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900"/>
                            </p:stCondLst>
                            <p:childTnLst>
                              <p:par>
                                <p:cTn id="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400"/>
                            </p:stCondLst>
                            <p:childTnLst>
                              <p:par>
                                <p:cTn id="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Я и путешеств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Я в этом году поеду в Китай, на Великую Китайскую стену. Это была моя большая мечта. Великая Китайская стена – чудо св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8" descr="Стена"/>
          <p:cNvPicPr/>
          <p:nvPr/>
        </p:nvPicPr>
        <p:blipFill>
          <a:blip r:embed="rId1"/>
          <a:stretch/>
        </p:blipFill>
        <p:spPr>
          <a:xfrm>
            <a:off x="1332000" y="2421000"/>
            <a:ext cx="2081160" cy="142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Китай"/>
          <p:cNvPicPr/>
          <p:nvPr/>
        </p:nvPicPr>
        <p:blipFill>
          <a:blip r:embed="rId2"/>
          <a:stretch/>
        </p:blipFill>
        <p:spPr>
          <a:xfrm>
            <a:off x="1403280" y="4365720"/>
            <a:ext cx="208116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33"/>
                </a:solidFill>
                <a:latin typeface="Tahoma"/>
              </a:rPr>
              <a:t>Моя будущая професс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8" descr="мед"/>
          <p:cNvPicPr/>
          <p:nvPr/>
        </p:nvPicPr>
        <p:blipFill>
          <a:blip r:embed="rId1"/>
          <a:stretch/>
        </p:blipFill>
        <p:spPr>
          <a:xfrm>
            <a:off x="3059280" y="2819520"/>
            <a:ext cx="295272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8:26:29Z</dcterms:created>
  <dc:creator>Владимир Евсюков</dc:creator>
  <dc:description/>
  <dc:language>en-US</dc:language>
  <cp:lastModifiedBy>Учитель</cp:lastModifiedBy>
  <dcterms:modified xsi:type="dcterms:W3CDTF">2010-01-25T23:41:47Z</dcterms:modified>
  <cp:revision>5</cp:revision>
  <dc:subject/>
  <dc:title>Мой портфолио</dc:title>
</cp:coreProperties>
</file>