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9F8-8FDC-41AA-9574-95DB8928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C64-E2CC-48F0-ACDD-243FA9E2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D82-D3FD-43BE-97BA-2999341D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514-8759-4401-8E97-84CC30BF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C381-E6F1-4A0D-86A8-7A3286D2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4E89-16A7-4664-B39A-D9D71745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DCEF-C2EA-4AF0-8F0A-FBB9D5E0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40F-FEDF-4A63-8849-4182332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16C6-D818-4D02-8830-3C7C0138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D0A3-970B-4BA1-88A7-AEC77989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BE49-3705-4129-AF1B-143E29EA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255-828C-4216-BF39-CE339FDD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14DC-9ED9-4D39-A032-05ABFCE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BD1E-12F0-48D9-A1B1-2C39B01C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AE5D-3D13-4455-B7EC-FB01C0C4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926F-0D4C-4ABE-BAB5-F76670D3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8533-AB66-477F-BC8B-BFA61151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98C-3A8A-4271-A41A-3734FB76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FDE-521F-4BA6-A2D7-8B3F2DBC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24B-FB18-45F0-81B5-48C3AD4E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686-8E6E-4439-8528-87E0AE29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63D-0CA5-4D05-ADB2-DF51ACB4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581-38F4-4F8A-B596-8A86A61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72A-BA82-447D-9224-E0B3379E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17a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9533-C406-4632-812A-CC0551263FF2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0000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17a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7DE2-B2E8-4140-A532-5EFF2CD3562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ff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«Устройство для демонстрации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одели теплового движения молекул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полнил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учащийся 8 «А» класса МОУ СОШ №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ыстрицкий Констан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Научный руководитель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учитель физик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орина Г.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График зависимости амплитуды колебаний шариков от переменного напряжени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76440" y="1600200"/>
          <a:ext cx="598968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6440" y="1600200"/>
                    <a:ext cx="59896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ие устройст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новные положения М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остояние системы частиц в твёрдом те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ереход твёрдого состояния вещества в жидкое и затем в газообраз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Броуновское дви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Явление диффу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ависимость скорости диффузии от темп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еханизм возникновения давления в газе и зависимость его от темп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Изготовлен макет для демонстрации модели теплового движения молеку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Экспериментально установлена прямая пропорциональная зависимость амплитуды колебаний шариков от переменного напряжения и обратная пропорциональная зависимость амплитуды колебаний шариков от частоты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Наглядно смоделирован ряд опытов по термодинамике, которые можно использовать на уроках физик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ь и задачи рабо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следовать зависимость частоты и амплитуды колебаний диффузора от переменного напряжения в устройстве для демонстрации модели теплового движения молеку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Задачи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Создание макета для демонстрации модели теплового движения молеку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моделировать ряд наглядных опытов по термодинами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Экспериментально установить зависимость частоты и амплитуды колебаний диффузора от переменного напря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63640" y="1700280"/>
          <a:ext cx="609624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70028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уроках физики нами была изучена тема «Тепловые явлен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никла необходимость в устройстве, с помощью которого можно было бы «увидеть» тепловое движение молеку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ет использовался для выявления зависимости амплитуды колебаний шариков (имитирующих молекулы) от частоты и напряжения, подаваемого с внешнего источ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дея маке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55916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ой элемент данного устройства – динамик; его диффузор 1 расположен горизонтально. В центре диффузора находится небольшая горсть пластмассовых шариков 2 имитирующих молекулы, непрерывно подбрасываемых колеблющимся в направлении вертикальной оси диффузором. Для того, чтобы исключить разбрасывание шариков, их окружает прозрачный цилиндр 3, установленный соосно с диффузором и изготовленный из эластичного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6480" y="2556000"/>
            <a:ext cx="3290760" cy="250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ртёж устройства для демонстрации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дели теплового движения молеку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динам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корпус мак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верхняя панель корп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большие отверст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– прозрачный цилин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– диффузор дина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– выключат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– гибкий про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 – шарик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2960" y="2271600"/>
            <a:ext cx="3819600" cy="3076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9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9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9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9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Макет для демонстрации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модели теплового движения молеку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168880" y="16002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168880" y="38862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Эксперимент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600200"/>
          <a:ext cx="7925040" cy="4419720"/>
        </p:xfrm>
        <a:graphic>
          <a:graphicData uri="http://schemas.openxmlformats.org/drawingml/2006/table">
            <a:tbl>
              <a:tblPr/>
              <a:tblGrid>
                <a:gridCol w="2017800"/>
                <a:gridCol w="1152720"/>
                <a:gridCol w="1152360"/>
                <a:gridCol w="1224000"/>
                <a:gridCol w="1152360"/>
                <a:gridCol w="122580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ы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плиту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, с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800" spc="-1" strike="noStrike">
                          <a:solidFill>
                            <a:srgbClr val="ffffff"/>
                          </a:solidFill>
                          <a:latin typeface="Monotype Corsiva"/>
                          <a:ea typeface="Arial"/>
                        </a:rPr>
                        <a:t>ν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Г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фик зависимости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мплитуды колебаний шариков от част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47640" y="1628640"/>
          <a:ext cx="598968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28640"/>
                    <a:ext cx="59896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69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69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69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69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6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Эксперимент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1600200"/>
          <a:ext cx="7925040" cy="4419720"/>
        </p:xfrm>
        <a:graphic>
          <a:graphicData uri="http://schemas.openxmlformats.org/drawingml/2006/table">
            <a:tbl>
              <a:tblPr/>
              <a:tblGrid>
                <a:gridCol w="2306880"/>
                <a:gridCol w="1008000"/>
                <a:gridCol w="1152360"/>
                <a:gridCol w="1079640"/>
                <a:gridCol w="1152360"/>
                <a:gridCol w="122580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ы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пряже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плиту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, с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7:32:22Z</dcterms:created>
  <dc:creator>1</dc:creator>
  <dc:description/>
  <dc:language>en-US</dc:language>
  <cp:lastModifiedBy>TPX USER</cp:lastModifiedBy>
  <dcterms:modified xsi:type="dcterms:W3CDTF">2008-02-01T12:49:38Z</dcterms:modified>
  <cp:revision>26</cp:revision>
  <dc:subject/>
  <dc:title>«Исследование зависимости частоты и амплитуды  колебаний диффузора от переменного напряжения  в устройстве для демонстрации  модели теплового движения»</dc:title>
</cp:coreProperties>
</file>