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159-A1FC-40DF-BD6C-4BB4C3F0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3DC-1BB5-4D7D-936C-8072BB8C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9E3-6032-43DE-8531-F9B05E4E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936-D837-48D3-AB53-F66F497C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F4A-D226-43ED-B6A2-9555A00B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247-7DA6-4AA7-9500-1D55027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0BE-887E-4DAC-8413-7C8CAB4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184-4F4D-49CF-91DF-91D2E338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012-5083-49C5-A592-BEF33DE0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4A5-D023-4E67-9B94-05B0069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ED9-9F30-48D5-970B-CC6E3CB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7FC-C6D3-4272-9386-D5B53E5D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9230-B7B2-4F2E-9693-18AF729B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ы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1080" y="1342080"/>
            <a:ext cx="88844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стадии производственного процесса по выращиванию цве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Завоз и складирование сырья и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Обработка: удобрение цветов и рыхление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Отд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Контроль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Упаковка и склад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9640" y="189000"/>
          <a:ext cx="8209080" cy="45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9000"/>
                    <a:ext cx="820908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39640" y="4869000"/>
            <a:ext cx="835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ути повышения производительности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овышение уровня квалификации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Использование достижений научно-техн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Специализация и разделение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н помещения и схема производственных пото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1449360"/>
          <a:ext cx="7245360" cy="3375000"/>
        </p:xfrm>
        <a:graphic>
          <a:graphicData uri="http://schemas.openxmlformats.org/drawingml/2006/table">
            <a:tbl>
              <a:tblPr/>
              <a:tblGrid>
                <a:gridCol w="7245360"/>
              </a:tblGrid>
              <a:tr h="33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971640" y="4840200"/>
            <a:ext cx="7156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Шкаф для сырья и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Секции выращивания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Столы для декорирования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Контроль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Полка для готов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449360"/>
            <a:ext cx="0" cy="9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71280" y="2438280"/>
            <a:ext cx="143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789360"/>
            <a:ext cx="2879640" cy="1035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77000" y="1449360"/>
            <a:ext cx="2340000" cy="1214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3833640"/>
            <a:ext cx="220500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2798640"/>
            <a:ext cx="0" cy="855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22720" y="4149720"/>
            <a:ext cx="161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41280" y="2708280"/>
            <a:ext cx="40500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41280" y="3294000"/>
            <a:ext cx="40500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22360" y="3024360"/>
            <a:ext cx="0" cy="26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2708280"/>
            <a:ext cx="40644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294000"/>
            <a:ext cx="40644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2360" y="2708280"/>
            <a:ext cx="40644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62360" y="3294000"/>
            <a:ext cx="406440" cy="316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1640" y="3024360"/>
            <a:ext cx="0" cy="26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32000" y="3024360"/>
            <a:ext cx="0" cy="269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46280" y="1989000"/>
            <a:ext cx="585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989000"/>
            <a:ext cx="0" cy="54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37000" y="2303640"/>
            <a:ext cx="1800000" cy="85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0920" y="1673280"/>
            <a:ext cx="11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1640" y="1808280"/>
            <a:ext cx="17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85920" y="4103640"/>
            <a:ext cx="22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92720" y="405936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нтаризация производственных фонд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515960"/>
          <a:ext cx="8229600" cy="4383360"/>
        </p:xfrm>
        <a:graphic>
          <a:graphicData uri="http://schemas.openxmlformats.org/drawingml/2006/table">
            <a:tbl>
              <a:tblPr/>
              <a:tblGrid>
                <a:gridCol w="2846520"/>
                <a:gridCol w="1145880"/>
                <a:gridCol w="1086120"/>
                <a:gridCol w="1096920"/>
                <a:gridCol w="1218960"/>
                <a:gridCol w="83520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ре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уп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е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Arial Cyr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Arial Cyr"/>
                          <a:ea typeface="Times New Roman"/>
                        </a:rPr>
                        <a:t>Оборудование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.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самод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.Стол для декор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Arial Cyr"/>
                          <a:ea typeface="Times New Roma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99cc00"/>
                          </a:solidFill>
                          <a:latin typeface="Arial Cyr"/>
                          <a:ea typeface="Times New Roman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.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.Лоп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.Граб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8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 Cyr"/>
                          <a:ea typeface="Times New Roman"/>
                        </a:rPr>
                        <a:t>28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48240" y="2108160"/>
            <a:ext cx="87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ырье, материалы и поставщ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93560" y="1600200"/>
          <a:ext cx="8079120" cy="4672080"/>
        </p:xfrm>
        <a:graphic>
          <a:graphicData uri="http://schemas.openxmlformats.org/drawingml/2006/table">
            <a:tbl>
              <a:tblPr/>
              <a:tblGrid>
                <a:gridCol w="1946520"/>
                <a:gridCol w="1522440"/>
                <a:gridCol w="1390680"/>
                <a:gridCol w="1839600"/>
                <a:gridCol w="1379880"/>
              </a:tblGrid>
              <a:tr h="13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ыр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б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ап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за од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единиц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став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дре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. Зем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тон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 руб./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оплат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выв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. Посадочные 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 тыс.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руб./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га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Живые цве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редит, доста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. Удоб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 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руб./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га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Семе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достав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. Торфяные гор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 тыс.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5 руб./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газ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«Зелёный ми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 достав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бестоимость продук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368360"/>
          <a:ext cx="8229600" cy="51721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254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Расчет стоимости материалов на выращивание одного цв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92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за од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д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од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. Зем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2 руб./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2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. Посадоч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0 руб./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4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. Удобр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0 руб./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0,025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0,5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. Торфяные гор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6,5 руб./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6,5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Итого: стоимость всех материалов (С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9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изнес-план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ндивидуального частного предприятия «Эдельвей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дрес предприятия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Россия, г. Пенза, ул. Цветочная дом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принима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Пимкина 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омашний адрес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л. Попова  д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леф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63-36-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уть предлагаемого проект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здание на базе арендованного помещения предприятие по выращиванию и реализации цветов для молодёжи и людей среднего возраста. На предприятии будут работать квалифицированные специалисты. Изделие пользуется большим спросом на ры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вокупная стоимость проекта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637480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анная идея и содержащиеся в бизнес-плане сведения являются авторской разработкой и разглашению не подлеж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3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3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3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лиз структуры себестоимости одного цвет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1600" y="789120"/>
          <a:ext cx="8772480" cy="5957640"/>
        </p:xfrm>
        <a:graphic>
          <a:graphicData uri="http://schemas.openxmlformats.org/drawingml/2006/table">
            <a:tbl>
              <a:tblPr/>
              <a:tblGrid>
                <a:gridCol w="974880"/>
                <a:gridCol w="974520"/>
                <a:gridCol w="974880"/>
                <a:gridCol w="873000"/>
                <a:gridCol w="1076400"/>
                <a:gridCol w="1136520"/>
                <a:gridCol w="812880"/>
                <a:gridCol w="974880"/>
                <a:gridCol w="974520"/>
              </a:tblGrid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2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т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я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естои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у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есто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ырьё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9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56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упать боле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шёвые 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Фо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абот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9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ыш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да за счё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ения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Еди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0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р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7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3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я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ежное отношение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51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н маркет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72960" y="876960"/>
            <a:ext cx="45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арактеристика конкурент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01640" y="1409760"/>
          <a:ext cx="7819920" cy="2730600"/>
        </p:xfrm>
        <a:graphic>
          <a:graphicData uri="http://schemas.openxmlformats.org/drawingml/2006/table">
            <a:tbl>
              <a:tblPr/>
              <a:tblGrid>
                <a:gridCol w="2530440"/>
                <a:gridCol w="2641680"/>
                <a:gridCol w="2647800"/>
              </a:tblGrid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газ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лифицированные специалисты, хорошая производственная б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е цены, узкий ассорти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Садоводы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емлемые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рекламы, слабые каналы сбы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6600"/>
                      </a:solidFill>
                    </a:lnL>
                    <a:lnR w="13680">
                      <a:solidFill>
                        <a:srgbClr val="ff6600"/>
                      </a:solidFill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33240" y="4443480"/>
            <a:ext cx="784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ля того чтобы предприятие было конкурентоспособн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усматриваются следующие шаг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ать квалификацию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ширять ассортимент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дить эффективные каналы сбыт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овать рекламу свое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c3ca"/>
                </a:solidFill>
                <a:latin typeface="Arial"/>
              </a:rPr>
              <a:t>Характеристика продук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6160" y="671400"/>
            <a:ext cx="87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ы - хороший подарок на любые праздники. Мы предлагаем вам разные сорта цветов: гвоздики, гладиолусы, тюльпаны, розы и т.д. Букет дополняет яркая и праздничная упаковка. Обязательно используется фирменная этик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560" y="1706400"/>
            <a:ext cx="327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6c3ca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520" y="2133720"/>
            <a:ext cx="880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 конкурентов на аналогичную продукцию колеблется от 70 до 80 рублей за штуку. Цена нашей продукции будет составлять от 60 до 70 рублей за шту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84480" y="297504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6c3ca"/>
                </a:solidFill>
                <a:latin typeface="Arial"/>
              </a:rPr>
              <a:t>Сбы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1360" y="3498840"/>
            <a:ext cx="87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енциальный объём рынка 100 000 цветов в год. Предполагается  освоить 20 % рынка, что составляет  20 000  цветов в год. При средней цене 65 рублей за один цветок  запланированная для освоения  доля рынка составит 1 300 000 рублей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484020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6c3ca"/>
                </a:solidFill>
                <a:uFillTx/>
                <a:latin typeface="Arial"/>
              </a:rPr>
              <a:t>Основные каналы сбы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c3ca"/>
                </a:solidFill>
                <a:latin typeface="Arial"/>
              </a:rPr>
              <a:t>1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дача продукции в магазин для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6c3ca"/>
                </a:solidFill>
                <a:latin typeface="Arial"/>
              </a:rPr>
              <a:t>2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ём заказов по телефону с доставкой на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028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5120" y="987480"/>
            <a:ext cx="88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еденческий принцип сегментирования потребительского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3160" y="1476360"/>
            <a:ext cx="2556000" cy="2062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400" y="3868560"/>
            <a:ext cx="79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раст людей, покупающих цветы в особых слу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89160" y="4375080"/>
            <a:ext cx="2611440" cy="2097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92720" y="4408560"/>
            <a:ext cx="0" cy="2085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5451480"/>
            <a:ext cx="261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76360"/>
            <a:ext cx="0" cy="96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52840" y="4636080"/>
            <a:ext cx="7254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6-11)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30880" y="5497560"/>
            <a:ext cx="120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жи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ю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83040" y="5450040"/>
            <a:ext cx="2622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76880" y="4400640"/>
            <a:ext cx="0" cy="20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89480" y="4387680"/>
            <a:ext cx="0" cy="2097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4560" y="1488960"/>
            <a:ext cx="0" cy="96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2800" y="4700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5320" y="4640400"/>
            <a:ext cx="11955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Молодёж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(17-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84640" y="5427720"/>
            <a:ext cx="12207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Лю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средн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695680"/>
            <a:ext cx="20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Особый слу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94080" y="1486080"/>
            <a:ext cx="1089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ыд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ку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64160" y="528480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656400" y="4754520"/>
            <a:ext cx="248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20704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оминирующ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52760" y="2097000"/>
            <a:ext cx="1243080" cy="35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a3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ик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771640" y="1484280"/>
          <a:ext cx="3800520" cy="4837320"/>
        </p:xfrm>
        <a:graphic>
          <a:graphicData uri="http://schemas.openxmlformats.org/drawingml/2006/table">
            <a:tbl>
              <a:tblPr/>
              <a:tblGrid>
                <a:gridCol w="739800"/>
                <a:gridCol w="741600"/>
                <a:gridCol w="739800"/>
                <a:gridCol w="1579320"/>
              </a:tblGrid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.Пе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Ул. Цветочная, дом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 Cyr"/>
                        </a:rPr>
                        <a:t>Цв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 Cyr"/>
                        </a:rPr>
                        <a:t>разных сор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Цена : от 60 до 7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Заказ по тел.: 63-36-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ставка: 10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ff00"/>
                      </a:solidFill>
                    </a:lnR>
                    <a:lnT>
                      <a:noFill/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4120" y="-27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8880" y="866880"/>
            <a:ext cx="815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00240" y="237960"/>
            <a:ext cx="708660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Цветы,выращенные с душой,для Вашей души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320920" y="1601640"/>
            <a:ext cx="486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дивидуальное частное предприятие «Эдельвейс»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9360" y="1968840"/>
            <a:ext cx="93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Выращивает и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цветы разных сор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озы, гвоздики, гладиолусы,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юльпаны и многое друго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55920" y="3305160"/>
            <a:ext cx="570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предлагаем Вам: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560" y="3790800"/>
            <a:ext cx="667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9536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Различные сорт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раздничное оформление на Ваш 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886120" y="4565520"/>
            <a:ext cx="262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ш адрес: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83640" y="506952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г. Пенза, ул. Цветочная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38360" y="5511960"/>
            <a:ext cx="52005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нимаем заказы по тел.:</a:t>
            </a:r>
            <a:endParaRPr b="0" lang="en-US" sz="1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44480" y="566820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3-36-6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13200" y="1944720"/>
            <a:ext cx="1369800" cy="1295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253680" y="6216840"/>
            <a:ext cx="2539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ставка 10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8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ый план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200" y="1149840"/>
            <a:ext cx="123451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Юридический статус предприятия</a:t>
            </a:r>
            <a:r>
              <a:rPr b="0" lang="ru-RU" sz="2400" spc="-1" strike="noStrike">
                <a:solidFill>
                  <a:srgbClr val="32cea5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индивидуальный предпринимател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Административно- управленческий персонал и их окла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директор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 000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бухгалтер – делопроизводитель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000 рублей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менеджер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 000 рублей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того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11 000 рублей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тка принятия решении для первоначальной оценки перспективност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4030920" cy="4525920"/>
        </p:xfrm>
        <a:graphic>
          <a:graphicData uri="http://schemas.openxmlformats.org/drawingml/2006/table">
            <a:tbl>
              <a:tblPr/>
              <a:tblGrid>
                <a:gridCol w="403092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50920" y="1557360"/>
          <a:ext cx="8858160" cy="395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8858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95280" y="5734080"/>
            <a:ext cx="820908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воспользовавшись сеткой для принятия решений, я остановила свой выбор на выращивании цветов, так как эта идея удовлетворяет всем критериям оценки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ционная структура предприя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5680" y="1290600"/>
            <a:ext cx="1951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19890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Бухгал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95680" y="1989000"/>
            <a:ext cx="21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Дир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201600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Менедж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27360" y="2214720"/>
            <a:ext cx="113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6880" y="2214720"/>
            <a:ext cx="1050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2602080"/>
            <a:ext cx="0" cy="1501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3429000"/>
            <a:ext cx="288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429000"/>
            <a:ext cx="0" cy="674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0640" y="3429000"/>
            <a:ext cx="0" cy="674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92720" y="3429000"/>
            <a:ext cx="0" cy="674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2000" y="3429000"/>
            <a:ext cx="0" cy="674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37000" y="4302000"/>
            <a:ext cx="38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Работники (10 челове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ценка рис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040" y="119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040" y="119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97000" y="971640"/>
          <a:ext cx="8055000" cy="5765760"/>
        </p:xfrm>
        <a:graphic>
          <a:graphicData uri="http://schemas.openxmlformats.org/drawingml/2006/table">
            <a:tbl>
              <a:tblPr/>
              <a:tblGrid>
                <a:gridCol w="2176560"/>
                <a:gridCol w="2178000"/>
                <a:gridCol w="2176560"/>
                <a:gridCol w="1523880"/>
              </a:tblGrid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Arial Cyr"/>
                          <a:ea typeface="Times New Roman"/>
                        </a:rPr>
                        <a:t>Возможные источники угро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60093"/>
                          </a:solidFill>
                          <a:latin typeface="Arial Cyr"/>
                          <a:ea typeface="Times New Roman"/>
                        </a:rPr>
                        <a:t>Принимаемые 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Arial Cyr"/>
                          <a:ea typeface="Times New Roman"/>
                        </a:rPr>
                        <a:t>в случае внезапного возникновения угро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Arial Cyr"/>
                          <a:ea typeface="Times New Roman"/>
                        </a:rPr>
                        <a:t>направленные на предотвращение возможной угро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1.Затрудняется сбыт готовой   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Усиление рекламы, снижение ц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Расширение ассортимента товара и повышение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2.По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Вызов 01.Потушение собственными си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Страхование. Регулярные противопожарные инструкции с персон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3.Болезнь                 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Замена временно нетрудоспособного на здор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Регулярный медицинский осмотр рабо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4.Несчастный случай (порезы, ушибы, трав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Оказание первой медицинской помощи. Вызов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  <a:ea typeface="Times New Roman"/>
                        </a:rPr>
                        <a:t>Инструктаж по технике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3640" cy="6680160"/>
        </p:xfrm>
        <a:graphic>
          <a:graphicData uri="http://schemas.openxmlformats.org/drawingml/2006/table">
            <a:tbl>
              <a:tblPr/>
              <a:tblGrid>
                <a:gridCol w="2234520"/>
                <a:gridCol w="1102680"/>
                <a:gridCol w="1200600"/>
                <a:gridCol w="1204200"/>
                <a:gridCol w="1199160"/>
                <a:gridCol w="1203840"/>
                <a:gridCol w="998640"/>
              </a:tblGrid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ём производства и сбыта,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ручка от продаж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ые расходы, руб.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5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рплата работни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ырьё и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в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рплата админист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плата рекла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торгов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очи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держки произ-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5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быль до уплаты налог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71280" y="0"/>
          <a:ext cx="9072720" cy="6858000"/>
        </p:xfrm>
        <a:graphic>
          <a:graphicData uri="http://schemas.openxmlformats.org/drawingml/2006/table">
            <a:tbl>
              <a:tblPr/>
              <a:tblGrid>
                <a:gridCol w="2295720"/>
                <a:gridCol w="1035000"/>
                <a:gridCol w="944640"/>
                <a:gridCol w="1081080"/>
                <a:gridCol w="944640"/>
                <a:gridCol w="944280"/>
                <a:gridCol w="946440"/>
                <a:gridCol w="880920"/>
              </a:tblGrid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гу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ка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ъём производства и сбыта, ш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ыручка от продаж,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ямые расходы, руб.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8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зарплата работника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5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сырьё и материал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1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1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3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свенные расход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60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60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68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649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зарплата админист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0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2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оплата реклам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1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49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торгов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1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1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3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прочие расход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9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9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3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-ва,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9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9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98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20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20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348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1649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быль до уплаты налога, руб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20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5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020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51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чёт точки самоокупаем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968280"/>
            <a:ext cx="133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80" y="920880"/>
            <a:ext cx="8937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 совокупным фиксированным затратам относится: зарплата администрации 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чие рас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22360" y="1682640"/>
            <a:ext cx="47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СФЗ = 132000 + 9100 = 223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80" y="2158920"/>
            <a:ext cx="87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Цена одного цветка Ц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шт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65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80" y="255600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 переменным затратам относятся все другие расходы, кроме фиксиров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3257640"/>
            <a:ext cx="74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ПЗ = 300000 + 580000 + 35490 + 78000 = 99349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80" y="3770280"/>
            <a:ext cx="87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еременные затраты в расчёте на одно изделие состав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46280" y="43052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ПЗ</a:t>
            </a:r>
            <a:r>
              <a:rPr b="1" i="1" lang="ru-RU" sz="1400" spc="-1" strike="noStrike">
                <a:solidFill>
                  <a:srgbClr val="66ff33"/>
                </a:solidFill>
                <a:latin typeface="Arial"/>
              </a:rPr>
              <a:t>шт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= ПЗ/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 =  993490/20000 =49 руб. 7 коп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80" y="4869000"/>
            <a:ext cx="89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очка самоокупаемости рав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60360" y="5543640"/>
            <a:ext cx="65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К = СФЗ/Ц</a:t>
            </a:r>
            <a:r>
              <a:rPr b="1" i="1" lang="en-US" sz="1400" spc="-1" strike="noStrike">
                <a:solidFill>
                  <a:srgbClr val="66ff33"/>
                </a:solidFill>
                <a:latin typeface="Arial"/>
              </a:rPr>
              <a:t>шт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 – ПЗ</a:t>
            </a:r>
            <a:r>
              <a:rPr b="1" i="1" lang="en-US" sz="1400" spc="-1" strike="noStrike">
                <a:solidFill>
                  <a:srgbClr val="66ff33"/>
                </a:solidFill>
                <a:latin typeface="Arial"/>
              </a:rPr>
              <a:t>шт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= 223000/15,3 ≈ 1476 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ртовый 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43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азмер стартового капитала определяем как сумму всех расходов  (прямых и косвенных) за первые шесть месяцев плюс расходы на закупку недостающего оборудования и инструм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32000" y="252900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637200 + 280 = 63748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519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Необходимый стартовый капитал можно получить из следующих источ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599000"/>
            <a:ext cx="65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- 600000 руб. в виде кред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- 37480 руб. из лич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5b1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000" y="773280"/>
            <a:ext cx="877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2000" y="971640"/>
            <a:ext cx="877572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«ЭДЕЛЬВЕЙ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наименование юридического 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Общие по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дивидуальное частное предприятие «Эдельвей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лное наименование юридического л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, г. Пенза, ул. Цветочная, дом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место его нахождения, адр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мкина Вера Вячеслав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ладельцы обще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Цели и предмет деятельности об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удовлетворение своих финансовых нужд путем выращивания и реализации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ли деятельности обще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ений, насыщение рынка това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производствен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редмет, вид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Уставный капит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сумма 500 000 руб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азмеры уставного капитала обще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заем на начало финансовой деятельности. Планируется взять заем в банк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рядок форм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мму 100 000 рублей. На сумму кредита предприятие закупит необходи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5900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35900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5436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59000"/>
            <a:ext cx="7850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6244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55436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22936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67864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15636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000" y="612792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орудование и осуществит внос ренты за помещение.  Срок окупае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28472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2792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46272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000" y="6399360"/>
            <a:ext cx="76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рат в течение двух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35600"/>
            <a:ext cx="7850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324000"/>
            <a:ext cx="859608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Управление общ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назначение органов управления осуществляется учредите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остав и порядок назначения органов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все решения принимает учре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компетенции органов управления обществом и порядок принятия ими решен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учредитель обязан сформировать уставный капитал, имеет право контролир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рава и обязанности учредител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инансовое состояние предприятия и перспективы развития предприятия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Имущество и хозяйственная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имущество будет приобретено на заемные средства. Порядок управления – прям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источники формирования имущества и порядок управления 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правление имуще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прибыль идет учредителю и на приобретение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условия и порядок распределения прибыли между учредител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VI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Труд и социальное развит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никам обеспечивается полный социальный пак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оциальная защищенность работников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VII</a:t>
            </a: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. Ликвидация об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квидация происходит при отсутствии рынка сбыта, при банкротстве по реш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условия и порядок ликвидации предприя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редителя и в связи с другими факторами, означающими нежизнеспособ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168640"/>
            <a:ext cx="832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редитель имеет право взять руководство компании на себ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6640" y="90792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6640" y="131436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640" y="171936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219708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6640" y="252900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6640" y="361944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640" y="315900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6640" y="383364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6640" y="473400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6640" y="561960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6640" y="603900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6640" y="6335640"/>
            <a:ext cx="801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РЕДИТЕЛЬ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000" y="1268280"/>
            <a:ext cx="89820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ЭДЕЛЬВЕЙ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наименование юридического 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Об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ое частное предприятие «Эдельвей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полное наименование юридического лиц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, г. Пенза, ул. Цветочная, дом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есто его нахождения, адре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Цели и предмет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удовлетворение своих финансовых нужд путем выращивания 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 цели деятельности общ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ализации цветов , насыщение рынка това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производственн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редмет, виды деятельн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529000"/>
            <a:ext cx="807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14720"/>
            <a:ext cx="807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968640"/>
            <a:ext cx="807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599000"/>
            <a:ext cx="807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184720"/>
            <a:ext cx="807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2000" y="233280"/>
            <a:ext cx="88200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Управление предприя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управление осуществляется учреди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рядок управления деятельностью предприят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осуществление контроля за деятельностью предприят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лномочия учредителей при ведении де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транения от должности руководящи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учредитель обязан решать споры предприятия, следить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 обязанности  учредите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Имущество и хозяйственная деяте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размер уставного капитала 500 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размер, состав, сроки и порядок внесения до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вся прибыль идет учредителю и на приобретение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условия и порядок распределения прибыл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. Ликвидация пред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квидация происходит при отсутствии рынка сбыта, при  банкротств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условия и порядок ликвидации предприят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решению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редителя и в связи с другими факторами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начающими нежизнеспособность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90792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40328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194328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248436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1640" y="293364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383364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437364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540864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1640" y="590400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308640"/>
            <a:ext cx="828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3:01:49Z</dcterms:created>
  <dc:creator>PIMKIN</dc:creator>
  <dc:description/>
  <dc:language>en-US</dc:language>
  <cp:lastModifiedBy>PIMKIN</cp:lastModifiedBy>
  <dcterms:modified xsi:type="dcterms:W3CDTF">2007-05-13T17:27:28Z</dcterms:modified>
  <cp:revision>98</cp:revision>
  <dc:subject/>
  <dc:title>Бизнес-план Индивидуального частного предприятия «Эдельвейс»</dc:title>
</cp:coreProperties>
</file>