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AC2-F7C0-4088-80A3-7073F141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12C-B0F3-4C3A-84D4-871A36C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010-2D38-4F08-825E-3A715362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69C-9D90-45AC-BA04-EF96193E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446-F81A-4301-B89D-C39AD008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B2D-D365-4A50-8119-BFE76DE2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3B6-D209-421B-837E-FBE215AE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1A9-CFFE-4543-9984-154BD18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C51-82D1-48B5-A419-B229B67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636-0C92-4386-8F12-2973BED8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E0B-92C3-423F-98D3-16433C1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0AD-FBC1-44F7-A4E4-F7A682C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0C3-B7E7-4804-87CD-4914EA4F3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92280"/>
            <a:ext cx="3240360" cy="31683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5421240"/>
            <a:ext cx="9001080" cy="1392480"/>
          </a:xfrm>
          <a:custGeom>
            <a:avLst/>
            <a:gdLst/>
            <a:ahLst/>
            <a:rect l="l" t="t" r="r" b="b"/>
            <a:pathLst>
              <a:path w="5670" h="877">
                <a:moveTo>
                  <a:pt x="0" y="877"/>
                </a:moveTo>
                <a:cubicBezTo>
                  <a:pt x="90" y="771"/>
                  <a:pt x="181" y="665"/>
                  <a:pt x="272" y="650"/>
                </a:cubicBezTo>
                <a:cubicBezTo>
                  <a:pt x="363" y="635"/>
                  <a:pt x="340" y="839"/>
                  <a:pt x="544" y="786"/>
                </a:cubicBezTo>
                <a:cubicBezTo>
                  <a:pt x="748" y="733"/>
                  <a:pt x="1248" y="340"/>
                  <a:pt x="1497" y="333"/>
                </a:cubicBezTo>
                <a:cubicBezTo>
                  <a:pt x="1746" y="326"/>
                  <a:pt x="1822" y="779"/>
                  <a:pt x="2041" y="741"/>
                </a:cubicBezTo>
                <a:cubicBezTo>
                  <a:pt x="2260" y="703"/>
                  <a:pt x="2464" y="212"/>
                  <a:pt x="2812" y="106"/>
                </a:cubicBezTo>
                <a:cubicBezTo>
                  <a:pt x="3160" y="0"/>
                  <a:pt x="3773" y="8"/>
                  <a:pt x="4128" y="106"/>
                </a:cubicBezTo>
                <a:cubicBezTo>
                  <a:pt x="4483" y="204"/>
                  <a:pt x="4687" y="672"/>
                  <a:pt x="4944" y="695"/>
                </a:cubicBezTo>
                <a:cubicBezTo>
                  <a:pt x="5201" y="718"/>
                  <a:pt x="5435" y="480"/>
                  <a:pt x="5670" y="24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941720"/>
            <a:ext cx="14414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544500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55897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573408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22936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35640" y="573408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51640" y="55897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867280" y="544500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2000" y="522936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5589720"/>
            <a:ext cx="216000" cy="14436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5589720"/>
            <a:ext cx="216000" cy="14436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83664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1125360"/>
            <a:ext cx="1440000" cy="10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205000"/>
            <a:ext cx="1439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3240000" cy="31683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36360" y="5421240"/>
            <a:ext cx="9001080" cy="1392480"/>
          </a:xfrm>
          <a:custGeom>
            <a:avLst/>
            <a:gdLst/>
            <a:ahLst/>
            <a:rect l="l" t="t" r="r" b="b"/>
            <a:pathLst>
              <a:path w="5670" h="877">
                <a:moveTo>
                  <a:pt x="0" y="877"/>
                </a:moveTo>
                <a:cubicBezTo>
                  <a:pt x="90" y="771"/>
                  <a:pt x="181" y="665"/>
                  <a:pt x="272" y="650"/>
                </a:cubicBezTo>
                <a:cubicBezTo>
                  <a:pt x="363" y="635"/>
                  <a:pt x="340" y="839"/>
                  <a:pt x="544" y="786"/>
                </a:cubicBezTo>
                <a:cubicBezTo>
                  <a:pt x="748" y="733"/>
                  <a:pt x="1248" y="340"/>
                  <a:pt x="1497" y="333"/>
                </a:cubicBezTo>
                <a:cubicBezTo>
                  <a:pt x="1746" y="326"/>
                  <a:pt x="1822" y="779"/>
                  <a:pt x="2041" y="741"/>
                </a:cubicBezTo>
                <a:cubicBezTo>
                  <a:pt x="2260" y="703"/>
                  <a:pt x="2464" y="212"/>
                  <a:pt x="2812" y="106"/>
                </a:cubicBezTo>
                <a:cubicBezTo>
                  <a:pt x="3160" y="0"/>
                  <a:pt x="3773" y="8"/>
                  <a:pt x="4128" y="106"/>
                </a:cubicBezTo>
                <a:cubicBezTo>
                  <a:pt x="4483" y="204"/>
                  <a:pt x="4687" y="672"/>
                  <a:pt x="4944" y="695"/>
                </a:cubicBezTo>
                <a:cubicBezTo>
                  <a:pt x="5201" y="718"/>
                  <a:pt x="5435" y="480"/>
                  <a:pt x="5670" y="24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445000"/>
            <a:ext cx="14414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9080" y="59482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60930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5080" y="623736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73264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91640" y="6237360"/>
            <a:ext cx="28764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708360" y="60930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924360" y="59482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068720" y="573264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6093000"/>
            <a:ext cx="216000" cy="14436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6093000"/>
            <a:ext cx="216000" cy="14436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981000"/>
            <a:ext cx="1439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127008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2349360"/>
            <a:ext cx="1440000" cy="10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40360" y="836640"/>
            <a:ext cx="1439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119700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421000"/>
            <a:ext cx="1439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692280"/>
            <a:ext cx="3240360" cy="31683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36360" y="5421240"/>
            <a:ext cx="9001080" cy="1392480"/>
          </a:xfrm>
          <a:custGeom>
            <a:avLst/>
            <a:gdLst/>
            <a:ahLst/>
            <a:rect l="l" t="t" r="r" b="b"/>
            <a:pathLst>
              <a:path w="5670" h="877">
                <a:moveTo>
                  <a:pt x="0" y="877"/>
                </a:moveTo>
                <a:cubicBezTo>
                  <a:pt x="90" y="771"/>
                  <a:pt x="181" y="665"/>
                  <a:pt x="272" y="650"/>
                </a:cubicBezTo>
                <a:cubicBezTo>
                  <a:pt x="363" y="635"/>
                  <a:pt x="340" y="839"/>
                  <a:pt x="544" y="786"/>
                </a:cubicBezTo>
                <a:cubicBezTo>
                  <a:pt x="748" y="733"/>
                  <a:pt x="1248" y="340"/>
                  <a:pt x="1497" y="333"/>
                </a:cubicBezTo>
                <a:cubicBezTo>
                  <a:pt x="1746" y="326"/>
                  <a:pt x="1822" y="779"/>
                  <a:pt x="2041" y="741"/>
                </a:cubicBezTo>
                <a:cubicBezTo>
                  <a:pt x="2260" y="703"/>
                  <a:pt x="2464" y="212"/>
                  <a:pt x="2812" y="106"/>
                </a:cubicBezTo>
                <a:cubicBezTo>
                  <a:pt x="3160" y="0"/>
                  <a:pt x="3773" y="8"/>
                  <a:pt x="4128" y="106"/>
                </a:cubicBezTo>
                <a:cubicBezTo>
                  <a:pt x="4483" y="204"/>
                  <a:pt x="4687" y="672"/>
                  <a:pt x="4944" y="695"/>
                </a:cubicBezTo>
                <a:cubicBezTo>
                  <a:pt x="5201" y="718"/>
                  <a:pt x="5435" y="480"/>
                  <a:pt x="5670" y="24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5445000"/>
            <a:ext cx="14414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9080" y="59482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60930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5080" y="623736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573264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91640" y="6237360"/>
            <a:ext cx="28764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08360" y="60930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924360" y="59482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068720" y="573264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3800" y="6093000"/>
            <a:ext cx="216000" cy="14436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6093000"/>
            <a:ext cx="216000" cy="14436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95640" y="83664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125360"/>
            <a:ext cx="1440000" cy="10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2205000"/>
            <a:ext cx="1439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115920"/>
            <a:ext cx="3240000" cy="31687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36360" y="5421240"/>
            <a:ext cx="9001080" cy="1392480"/>
          </a:xfrm>
          <a:custGeom>
            <a:avLst/>
            <a:gdLst/>
            <a:ahLst/>
            <a:rect l="l" t="t" r="r" b="b"/>
            <a:pathLst>
              <a:path w="5670" h="877">
                <a:moveTo>
                  <a:pt x="0" y="877"/>
                </a:moveTo>
                <a:cubicBezTo>
                  <a:pt x="90" y="771"/>
                  <a:pt x="181" y="665"/>
                  <a:pt x="272" y="650"/>
                </a:cubicBezTo>
                <a:cubicBezTo>
                  <a:pt x="363" y="635"/>
                  <a:pt x="340" y="839"/>
                  <a:pt x="544" y="786"/>
                </a:cubicBezTo>
                <a:cubicBezTo>
                  <a:pt x="748" y="733"/>
                  <a:pt x="1248" y="340"/>
                  <a:pt x="1497" y="333"/>
                </a:cubicBezTo>
                <a:cubicBezTo>
                  <a:pt x="1746" y="326"/>
                  <a:pt x="1822" y="779"/>
                  <a:pt x="2041" y="741"/>
                </a:cubicBezTo>
                <a:cubicBezTo>
                  <a:pt x="2260" y="703"/>
                  <a:pt x="2464" y="212"/>
                  <a:pt x="2812" y="106"/>
                </a:cubicBezTo>
                <a:cubicBezTo>
                  <a:pt x="3160" y="0"/>
                  <a:pt x="3773" y="8"/>
                  <a:pt x="4128" y="106"/>
                </a:cubicBezTo>
                <a:cubicBezTo>
                  <a:pt x="4483" y="204"/>
                  <a:pt x="4687" y="672"/>
                  <a:pt x="4944" y="695"/>
                </a:cubicBezTo>
                <a:cubicBezTo>
                  <a:pt x="5201" y="718"/>
                  <a:pt x="5435" y="480"/>
                  <a:pt x="5670" y="24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5595840"/>
            <a:ext cx="14414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60991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62434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6388200"/>
            <a:ext cx="28764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588312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195640" y="63882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10560" y="624348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27280" y="60991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70920" y="588312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6243480"/>
            <a:ext cx="216000" cy="14472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6243480"/>
            <a:ext cx="215640" cy="14472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3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219640" y="2565360"/>
            <a:ext cx="3240000" cy="3168720"/>
          </a:xfrm>
          <a:prstGeom prst="sun">
            <a:avLst>
              <a:gd name="adj" fmla="val 25000"/>
            </a:avLst>
          </a:prstGeom>
          <a:solidFill>
            <a:srgbClr val="f2f2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6360" y="5421240"/>
            <a:ext cx="9001080" cy="1392480"/>
          </a:xfrm>
          <a:custGeom>
            <a:avLst/>
            <a:gdLst/>
            <a:ahLst/>
            <a:rect l="l" t="t" r="r" b="b"/>
            <a:pathLst>
              <a:path w="5670" h="877">
                <a:moveTo>
                  <a:pt x="0" y="877"/>
                </a:moveTo>
                <a:cubicBezTo>
                  <a:pt x="90" y="771"/>
                  <a:pt x="181" y="665"/>
                  <a:pt x="272" y="650"/>
                </a:cubicBezTo>
                <a:cubicBezTo>
                  <a:pt x="363" y="635"/>
                  <a:pt x="340" y="839"/>
                  <a:pt x="544" y="786"/>
                </a:cubicBezTo>
                <a:cubicBezTo>
                  <a:pt x="748" y="733"/>
                  <a:pt x="1248" y="340"/>
                  <a:pt x="1497" y="333"/>
                </a:cubicBezTo>
                <a:cubicBezTo>
                  <a:pt x="1746" y="326"/>
                  <a:pt x="1822" y="779"/>
                  <a:pt x="2041" y="741"/>
                </a:cubicBezTo>
                <a:cubicBezTo>
                  <a:pt x="2260" y="703"/>
                  <a:pt x="2464" y="212"/>
                  <a:pt x="2812" y="106"/>
                </a:cubicBezTo>
                <a:cubicBezTo>
                  <a:pt x="3160" y="0"/>
                  <a:pt x="3773" y="8"/>
                  <a:pt x="4128" y="106"/>
                </a:cubicBezTo>
                <a:cubicBezTo>
                  <a:pt x="4483" y="204"/>
                  <a:pt x="4687" y="672"/>
                  <a:pt x="4944" y="695"/>
                </a:cubicBezTo>
                <a:cubicBezTo>
                  <a:pt x="5201" y="718"/>
                  <a:pt x="5435" y="480"/>
                  <a:pt x="5670" y="24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5595840"/>
            <a:ext cx="14414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60991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62434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6388200"/>
            <a:ext cx="28764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88312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5640" y="63882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10560" y="624348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627280" y="60991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70920" y="588312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6720" y="6243480"/>
            <a:ext cx="216000" cy="14472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6243480"/>
            <a:ext cx="215640" cy="14472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119700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68280"/>
            <a:ext cx="1440000" cy="10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781360"/>
            <a:ext cx="1439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08720" y="3689280"/>
            <a:ext cx="3240000" cy="3168720"/>
          </a:xfrm>
          <a:prstGeom prst="sun">
            <a:avLst>
              <a:gd name="adj" fmla="val 25000"/>
            </a:avLst>
          </a:prstGeom>
          <a:solidFill>
            <a:srgbClr val="f2f2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5421240"/>
            <a:ext cx="9001080" cy="1392480"/>
          </a:xfrm>
          <a:custGeom>
            <a:avLst/>
            <a:gdLst/>
            <a:ahLst/>
            <a:rect l="l" t="t" r="r" b="b"/>
            <a:pathLst>
              <a:path w="5670" h="877">
                <a:moveTo>
                  <a:pt x="0" y="877"/>
                </a:moveTo>
                <a:cubicBezTo>
                  <a:pt x="90" y="771"/>
                  <a:pt x="181" y="665"/>
                  <a:pt x="272" y="650"/>
                </a:cubicBezTo>
                <a:cubicBezTo>
                  <a:pt x="363" y="635"/>
                  <a:pt x="340" y="839"/>
                  <a:pt x="544" y="786"/>
                </a:cubicBezTo>
                <a:cubicBezTo>
                  <a:pt x="748" y="733"/>
                  <a:pt x="1248" y="340"/>
                  <a:pt x="1497" y="333"/>
                </a:cubicBezTo>
                <a:cubicBezTo>
                  <a:pt x="1746" y="326"/>
                  <a:pt x="1822" y="779"/>
                  <a:pt x="2041" y="741"/>
                </a:cubicBezTo>
                <a:cubicBezTo>
                  <a:pt x="2260" y="703"/>
                  <a:pt x="2464" y="212"/>
                  <a:pt x="2812" y="106"/>
                </a:cubicBezTo>
                <a:cubicBezTo>
                  <a:pt x="3160" y="0"/>
                  <a:pt x="3773" y="8"/>
                  <a:pt x="4128" y="106"/>
                </a:cubicBezTo>
                <a:cubicBezTo>
                  <a:pt x="4483" y="204"/>
                  <a:pt x="4687" y="672"/>
                  <a:pt x="4944" y="695"/>
                </a:cubicBezTo>
                <a:cubicBezTo>
                  <a:pt x="5201" y="718"/>
                  <a:pt x="5435" y="480"/>
                  <a:pt x="5670" y="24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5595840"/>
            <a:ext cx="14414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60991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6243480"/>
            <a:ext cx="28728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6388200"/>
            <a:ext cx="28764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88312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95640" y="638820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10560" y="624348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27280" y="6099120"/>
            <a:ext cx="287280" cy="46980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0920" y="5883120"/>
            <a:ext cx="287640" cy="470160"/>
          </a:xfrm>
          <a:custGeom>
            <a:avLst/>
            <a:gdLst/>
            <a:ahLst/>
            <a:rect l="l" t="t" r="r" b="b"/>
            <a:pathLst>
              <a:path w="181" h="296">
                <a:moveTo>
                  <a:pt x="181" y="0"/>
                </a:moveTo>
                <a:cubicBezTo>
                  <a:pt x="128" y="125"/>
                  <a:pt x="75" y="250"/>
                  <a:pt x="45" y="273"/>
                </a:cubicBezTo>
                <a:cubicBezTo>
                  <a:pt x="15" y="296"/>
                  <a:pt x="7" y="216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6720" y="6243480"/>
            <a:ext cx="216000" cy="14472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6243480"/>
            <a:ext cx="215640" cy="144720"/>
          </a:xfrm>
          <a:prstGeom prst="ellipse">
            <a:avLst/>
          </a:prstGeom>
          <a:solidFill>
            <a:srgbClr val="f4aa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1628640"/>
            <a:ext cx="1439640" cy="10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170028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429000"/>
            <a:ext cx="144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50:47Z</dcterms:created>
  <dc:creator>Владимир Евсюков</dc:creator>
  <dc:description/>
  <dc:language>en-US</dc:language>
  <cp:lastModifiedBy>Владимир Евсюков</cp:lastModifiedBy>
  <dcterms:modified xsi:type="dcterms:W3CDTF">2009-05-05T09:35:30Z</dcterms:modified>
  <cp:revision>4</cp:revision>
  <dc:subject/>
  <dc:title>Слайд 1</dc:title>
</cp:coreProperties>
</file>