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5CA-49B1-4FFD-B9F4-319A96B0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090-8A25-4F08-A5C1-90130388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630-CD3C-4ED8-A4DB-C775BA75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544-CD04-4ABB-AA03-5196A70A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82A9-00CA-4FE0-8976-42DFE845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B8DE-C3F5-49B5-9F5C-DF79D103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66B2-8260-4BB5-AB64-231DD3E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EEC0-4354-4FCF-8FDB-FA51B5F6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0469-A2F9-4401-AF3D-58561064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68C-29AC-418C-94A9-9CB5A69F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8FDF-5C88-4BB5-A43F-FAC3C84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E12-A69B-44B3-B208-BE44EB9B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E95B-3F85-4EA6-9165-CADD3FBF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E7EA-1C65-49E0-AECA-7AE8985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D4FA-6245-4CDC-80AD-FCBD0BB2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92A-F0D8-4DC3-99A5-BB3340CA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2D7F-C08D-45E8-A458-9E98F621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CAE6-8F19-4151-A37B-16E09BAA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DACA-561F-40CD-AE12-2603DE3E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FDD1-CDF5-420E-A772-713A71FB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14C8-6B26-4959-BAFC-CE5509CB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8941-BBF1-4344-9EC5-FAFB1D7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080-582B-45F1-95D0-CE9055B9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CFEE-D402-4E0F-9A9D-09CFFF47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10C9-06C6-4E20-A38F-57AD56B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31BA-E5C7-4B02-92A0-52D9CB0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AF07-A8A5-425F-926C-1B34E2A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DF1E-A4F0-4CBB-9845-3EDF157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07FA-9C89-4D8E-9F6B-3F7222EF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3A6A-15B3-486D-A153-C8EB2697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710-FBFF-4960-8A2A-4689B5B2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A17-6D0B-480F-BD0E-6980CBB3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272-ADAA-4150-A433-4AF00F8A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C71-AE44-42D5-A1A0-75669304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A53-E3C0-40C7-BB1E-313C19B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31B-D37C-4F5C-8B2C-0D9D3DF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CF79-F07D-4BA0-897A-DF8C27F7B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186C-AE47-4B3D-B81D-D92B75D59FD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FEA5-0272-462F-A516-CDF38BB0A5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cc"/>
                </a:solidFill>
                <a:latin typeface="Arial Black"/>
              </a:rPr>
              <a:t>     </a:t>
            </a:r>
            <a:r>
              <a:rPr b="0" lang="en-US" sz="9600" spc="-1" strike="noStrike">
                <a:solidFill>
                  <a:srgbClr val="ff33cc"/>
                </a:solidFill>
                <a:latin typeface="Arial Black"/>
              </a:rPr>
              <a:t>В</a:t>
            </a:r>
            <a:r>
              <a:rPr b="0" lang="en-US" sz="9600" spc="-1" strike="noStrike">
                <a:solidFill>
                  <a:srgbClr val="ff8b17"/>
                </a:solidFill>
                <a:latin typeface="Arial Black"/>
              </a:rPr>
              <a:t>е</a:t>
            </a:r>
            <a:r>
              <a:rPr b="0" lang="en-US" sz="9600" spc="-1" strike="noStrike">
                <a:solidFill>
                  <a:srgbClr val="ffe103"/>
                </a:solidFill>
                <a:latin typeface="Arial Black"/>
              </a:rPr>
              <a:t>с</a:t>
            </a:r>
            <a:r>
              <a:rPr b="0" lang="en-US" sz="9600" spc="-1" strike="noStrike">
                <a:solidFill>
                  <a:srgbClr val="66ff33"/>
                </a:solidFill>
                <a:latin typeface="Arial Black"/>
              </a:rPr>
              <a:t>ё</a:t>
            </a:r>
            <a:r>
              <a:rPr b="0" lang="en-US" sz="9600" spc="-1" strike="noStrike">
                <a:solidFill>
                  <a:srgbClr val="33ccff"/>
                </a:solidFill>
                <a:latin typeface="Arial Black"/>
              </a:rPr>
              <a:t>л</a:t>
            </a:r>
            <a:r>
              <a:rPr b="0" lang="en-US" sz="9600" spc="-1" strike="noStrike">
                <a:solidFill>
                  <a:srgbClr val="0033cc"/>
                </a:solidFill>
                <a:latin typeface="Arial Black"/>
              </a:rPr>
              <a:t>а</a:t>
            </a:r>
            <a:r>
              <a:rPr b="0" lang="en-US" sz="9600" spc="-1" strike="noStrike">
                <a:solidFill>
                  <a:srgbClr val="9900cc"/>
                </a:solidFill>
                <a:latin typeface="Arial Black"/>
              </a:rPr>
              <a:t>я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en-US" sz="9600" spc="-1" strike="noStrike">
                <a:solidFill>
                  <a:srgbClr val="9900cc"/>
                </a:solidFill>
                <a:latin typeface="Arial Black"/>
              </a:rPr>
              <a:t>а</a:t>
            </a:r>
            <a:r>
              <a:rPr b="0" lang="en-US" sz="9600" spc="-1" strike="noStrike">
                <a:solidFill>
                  <a:srgbClr val="0033cc"/>
                </a:solidFill>
                <a:latin typeface="Arial Black"/>
              </a:rPr>
              <a:t>з</a:t>
            </a:r>
            <a:r>
              <a:rPr b="0" lang="en-US" sz="9600" spc="-1" strike="noStrike">
                <a:solidFill>
                  <a:srgbClr val="33ccff"/>
                </a:solidFill>
                <a:latin typeface="Arial Black"/>
              </a:rPr>
              <a:t>б</a:t>
            </a:r>
            <a:r>
              <a:rPr b="0" lang="en-US" sz="9600" spc="-1" strike="noStrike">
                <a:solidFill>
                  <a:srgbClr val="66ff33"/>
                </a:solidFill>
                <a:latin typeface="Arial Black"/>
              </a:rPr>
              <a:t>у</a:t>
            </a:r>
            <a:r>
              <a:rPr b="0" lang="en-US" sz="9600" spc="-1" strike="noStrike">
                <a:solidFill>
                  <a:srgbClr val="ffe103"/>
                </a:solidFill>
                <a:latin typeface="Arial Black"/>
              </a:rPr>
              <a:t>к</a:t>
            </a:r>
            <a:r>
              <a:rPr b="0" lang="en-US" sz="9600" spc="-1" strike="noStrike">
                <a:solidFill>
                  <a:srgbClr val="ff8b17"/>
                </a:solidFill>
                <a:latin typeface="Arial Black"/>
              </a:rPr>
              <a:t>а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392720" cy="39466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79280" y="5373720"/>
            <a:ext cx="4105440" cy="1098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2556000" y="4076640"/>
            <a:ext cx="2520720" cy="11494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3492360" y="1125360"/>
            <a:ext cx="1581120" cy="2314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68360" y="429264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916360" cy="22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1895760" cy="21621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770280" cy="37832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68360" y="5373720"/>
            <a:ext cx="4105080" cy="10983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1728720" cy="916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900000" y="3213000"/>
            <a:ext cx="12398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1914480" cy="21715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3635280" y="486900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39640" y="573408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556000" y="573408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179280" y="4724280"/>
            <a:ext cx="1728720" cy="916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1908000" y="4797360"/>
            <a:ext cx="1729080" cy="916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4716360" y="5589720"/>
            <a:ext cx="4105440" cy="10983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5364000" y="1989000"/>
            <a:ext cx="3533760" cy="35337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1187280" y="3716280"/>
            <a:ext cx="13687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12360" cy="583092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920" y="4292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vantGarde Bk BT"/>
              </a:rPr>
              <a:t>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427640" y="573408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788000" y="4581360"/>
            <a:ext cx="4105080" cy="1098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4176720" cy="40813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2089440" cy="8985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4284720" y="476280"/>
            <a:ext cx="180000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1667160" cy="22287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248000" cy="39351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716360" y="5300640"/>
            <a:ext cx="4105440" cy="1098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4643280" y="4437000"/>
            <a:ext cx="1729080" cy="916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6588000" y="4292640"/>
            <a:ext cx="153360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324320" cy="39722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4859280" y="573408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076720" y="4581360"/>
            <a:ext cx="1728720" cy="916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7020000" y="4437000"/>
            <a:ext cx="1728720" cy="916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6588000" y="5589720"/>
            <a:ext cx="1729080" cy="9158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4572000" y="765000"/>
            <a:ext cx="1619280" cy="1933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6372360" y="2565360"/>
            <a:ext cx="7207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319640" cy="39801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0" y="5661000"/>
            <a:ext cx="4105440" cy="1098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643280" y="4437000"/>
            <a:ext cx="4105440" cy="1098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4140360" y="692280"/>
            <a:ext cx="1942920" cy="2124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796000" y="3141720"/>
            <a:ext cx="187308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84360" y="2131920"/>
            <a:ext cx="4319280" cy="41115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643280" y="4437000"/>
            <a:ext cx="4105440" cy="1098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4859280" y="573408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6732720" y="566100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4572000" y="765000"/>
            <a:ext cx="1762200" cy="2143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5867280" y="4005360"/>
            <a:ext cx="2087640" cy="21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324320" cy="39718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572000" y="5589720"/>
            <a:ext cx="4105440" cy="10983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4572000" y="4797360"/>
            <a:ext cx="1728720" cy="916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6372360" y="4724280"/>
            <a:ext cx="1728720" cy="916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4067280" y="692280"/>
            <a:ext cx="1590480" cy="2009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5651640" y="3860640"/>
            <a:ext cx="125712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824360" cy="41547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4105080" cy="1098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643280" y="4149720"/>
            <a:ext cx="4105440" cy="1098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4284720" y="620640"/>
            <a:ext cx="1504800" cy="21718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6300720" y="3284640"/>
            <a:ext cx="1224000" cy="109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635360" y="2205000"/>
            <a:ext cx="4065840" cy="41338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4105080" cy="1098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1258920" y="4292640"/>
            <a:ext cx="1728720" cy="9158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1728720" cy="916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2987640" y="692280"/>
            <a:ext cx="1714680" cy="20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1763640" y="3716280"/>
          <a:ext cx="2158920" cy="1882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63640" y="3716280"/>
                    <a:ext cx="215892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1:23:57Z</dcterms:created>
  <dc:creator>33</dc:creator>
  <dc:description/>
  <dc:language>en-US</dc:language>
  <cp:lastModifiedBy>33</cp:lastModifiedBy>
  <dcterms:modified xsi:type="dcterms:W3CDTF">2007-05-06T10:07:44Z</dcterms:modified>
  <cp:revision>3</cp:revision>
  <dc:subject/>
  <dc:title>Ромашки</dc:title>
</cp:coreProperties>
</file>