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B3D-CF31-4B67-B6BF-16141ADF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9CA-6F38-4CA9-BBF8-00777DB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80B-0C49-4419-B378-EAE056CB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47B-2077-451A-8543-EC943921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F102-0D6F-4D32-97E2-CD8B41AE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A1EE2-8A2B-4974-8799-6C6F876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DF0AC-D018-4B89-9659-0F21C136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945C4-DDAF-422E-8219-DFBC172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20AC5-A17B-4212-9111-BEDFD9D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0F17A-76F4-4B6F-BCB4-0ED1BB15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6F832-90B4-49B4-9B6E-A782DFA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498-87AE-4FA7-B936-A2ECE87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9291-7AE8-4FFE-9983-51734747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01C64-A6D7-4EA3-8827-CD3CD5D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8302-15B9-43AC-BB43-2BF15993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0A1A-C8F9-4245-B098-6AED02E8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F500F-09F0-47FC-AC35-5E42FD5E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E8E-5F60-402C-94D6-678FECC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F38-2F3F-4346-A248-437B0DDF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2FD-B4B1-4892-BA0F-2991E1D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DBE-D40D-4B96-9CD9-77004F9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001-54B0-4DAC-BA0E-8564478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C28-9191-4BE6-A36C-51F756F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FB3-C1D4-43A5-AEAC-590F771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1EB-ED60-439E-A3CC-40F39DFCE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D92-6AA6-4306-88CD-F2B8FD5AB7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1557360"/>
            <a:ext cx="831708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сказ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про молеку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дверь инопланетного корабля открылась, я захотела улете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3132000"/>
            <a:ext cx="3960720" cy="3726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003640" y="3141720"/>
            <a:ext cx="3168720" cy="2997000"/>
            <a:chOff x="5003640" y="3141720"/>
            <a:chExt cx="3168720" cy="2997000"/>
          </a:xfrm>
        </p:grpSpPr>
        <p:sp>
          <p:nvSpPr>
            <p:cNvPr id="164" name=""/>
            <p:cNvSpPr/>
            <p:nvPr/>
          </p:nvSpPr>
          <p:spPr>
            <a:xfrm>
              <a:off x="5003640" y="3141720"/>
              <a:ext cx="3168720" cy="2997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1840" y="37274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62160" y="41457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49640" y="37742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90320" y="41925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3480" y="462528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они оказались добрыми существами, путешествующими по всей галакт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44332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539640" y="3141720"/>
            <a:ext cx="3168720" cy="2997000"/>
            <a:chOff x="539640" y="3141720"/>
            <a:chExt cx="3168720" cy="2997000"/>
          </a:xfrm>
        </p:grpSpPr>
        <p:sp>
          <p:nvSpPr>
            <p:cNvPr id="174" name=""/>
            <p:cNvSpPr/>
            <p:nvPr/>
          </p:nvSpPr>
          <p:spPr>
            <a:xfrm>
              <a:off x="539640" y="3141720"/>
              <a:ext cx="3168720" cy="2997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7840" y="37274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8160" y="41457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85640" y="37742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6320" y="41925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9480" y="462528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приняли меня в свою команду и мы полетели на Вен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4000" y="2925720"/>
            <a:ext cx="345600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619280" y="3357720"/>
            <a:ext cx="1657440" cy="1655640"/>
            <a:chOff x="1619280" y="3357720"/>
            <a:chExt cx="1657440" cy="1655640"/>
          </a:xfrm>
        </p:grpSpPr>
        <p:sp>
          <p:nvSpPr>
            <p:cNvPr id="184" name=""/>
            <p:cNvSpPr/>
            <p:nvPr/>
          </p:nvSpPr>
          <p:spPr>
            <a:xfrm>
              <a:off x="1619280" y="3357720"/>
              <a:ext cx="1657440" cy="165564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65640" y="3681000"/>
              <a:ext cx="233640" cy="46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6880" y="3912120"/>
              <a:ext cx="190800" cy="23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61720" y="3707280"/>
              <a:ext cx="233640" cy="46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82960" y="3938400"/>
              <a:ext cx="190800" cy="23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38240" y="4177080"/>
              <a:ext cx="842760" cy="47772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34513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прогулки по Венере мы полетели дом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4465800" cy="393372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835280" y="3645000"/>
            <a:ext cx="1871640" cy="1584360"/>
            <a:chOff x="1835280" y="3645000"/>
            <a:chExt cx="1871640" cy="1584360"/>
          </a:xfrm>
        </p:grpSpPr>
        <p:sp>
          <p:nvSpPr>
            <p:cNvPr id="195" name=""/>
            <p:cNvSpPr/>
            <p:nvPr/>
          </p:nvSpPr>
          <p:spPr>
            <a:xfrm>
              <a:off x="1835280" y="3645000"/>
              <a:ext cx="1871640" cy="1584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91080" y="3954600"/>
              <a:ext cx="263880" cy="44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4840" y="4175640"/>
              <a:ext cx="215640" cy="22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4960" y="3979440"/>
              <a:ext cx="263880" cy="44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59080" y="4200480"/>
              <a:ext cx="215640" cy="22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5280" y="4429080"/>
              <a:ext cx="951480" cy="45720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03640" y="2637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е очень понравилось это путешествие и я подружилась с инопланетянам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443320" cy="247032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826920" y="3429000"/>
            <a:ext cx="3168720" cy="2997360"/>
            <a:chOff x="826920" y="3429000"/>
            <a:chExt cx="3168720" cy="2997360"/>
          </a:xfrm>
        </p:grpSpPr>
        <p:sp>
          <p:nvSpPr>
            <p:cNvPr id="206" name=""/>
            <p:cNvSpPr/>
            <p:nvPr/>
          </p:nvSpPr>
          <p:spPr>
            <a:xfrm>
              <a:off x="826920" y="3429000"/>
              <a:ext cx="3168720" cy="2997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45120" y="401472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85440" y="443304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2920" y="406188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13600" y="448020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6760" y="491256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611280" y="1916280"/>
            <a:ext cx="3889440" cy="3456000"/>
            <a:chOff x="611280" y="1916280"/>
            <a:chExt cx="3889440" cy="3456000"/>
          </a:xfrm>
        </p:grpSpPr>
        <p:sp>
          <p:nvSpPr>
            <p:cNvPr id="213" name=""/>
            <p:cNvSpPr/>
            <p:nvPr/>
          </p:nvSpPr>
          <p:spPr>
            <a:xfrm>
              <a:off x="611280" y="1916280"/>
              <a:ext cx="3889440" cy="3456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7400" y="2591640"/>
              <a:ext cx="548640" cy="9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47080" y="3074040"/>
              <a:ext cx="448200" cy="48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49880" y="2646000"/>
              <a:ext cx="548640" cy="9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99560" y="3128040"/>
              <a:ext cx="448200" cy="48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59720" y="3627000"/>
              <a:ext cx="1977480" cy="99756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>
            <a:off x="5219640" y="620640"/>
            <a:ext cx="347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свидани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356000" y="4149720"/>
            <a:ext cx="44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я сем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981000"/>
            <a:ext cx="4537080" cy="2592360"/>
            <a:chOff x="0" y="981000"/>
            <a:chExt cx="4537080" cy="2592360"/>
          </a:xfrm>
        </p:grpSpPr>
        <p:sp>
          <p:nvSpPr>
            <p:cNvPr id="222" name=""/>
            <p:cNvSpPr/>
            <p:nvPr/>
          </p:nvSpPr>
          <p:spPr>
            <a:xfrm>
              <a:off x="0" y="981000"/>
              <a:ext cx="4537080" cy="2592360"/>
            </a:xfrm>
            <a:custGeom>
              <a:avLst/>
              <a:gdLst>
                <a:gd name="textAreaLeft" fmla="*/ 1035720 w 4537080"/>
                <a:gd name="textAreaRight" fmla="*/ 3501360 w 4537080"/>
                <a:gd name="textAreaTop" fmla="*/ 591840 h 2592360"/>
                <a:gd name="textAreaBottom" fmla="*/ 200052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24000" y="1484280"/>
              <a:ext cx="936720" cy="865080"/>
            </a:xfrm>
            <a:custGeom>
              <a:avLst/>
              <a:gdLst>
                <a:gd name="textAreaLeft" fmla="*/ 385920 w 936720"/>
                <a:gd name="textAreaRight" fmla="*/ 550800 w 936720"/>
                <a:gd name="textAreaTop" fmla="*/ 356400 h 865080"/>
                <a:gd name="textAreaBottom" fmla="*/ 5086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87280" y="1484280"/>
              <a:ext cx="936720" cy="865080"/>
            </a:xfrm>
            <a:custGeom>
              <a:avLst/>
              <a:gdLst>
                <a:gd name="textAreaLeft" fmla="*/ 385920 w 936720"/>
                <a:gd name="textAreaRight" fmla="*/ 550800 w 936720"/>
                <a:gd name="textAreaTop" fmla="*/ 356400 h 865080"/>
                <a:gd name="textAreaBottom" fmla="*/ 5086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9280" y="2637000"/>
              <a:ext cx="1081080" cy="4316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55800 h 431640"/>
                <a:gd name="textAreaBottom" fmla="*/ 3758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3635280" y="3068640"/>
            <a:ext cx="230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п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9640" y="2317680"/>
            <a:ext cx="3962520" cy="3271680"/>
            <a:chOff x="539640" y="2317680"/>
            <a:chExt cx="3962520" cy="3271680"/>
          </a:xfrm>
        </p:grpSpPr>
        <p:sp>
          <p:nvSpPr>
            <p:cNvPr id="229" name=""/>
            <p:cNvSpPr/>
            <p:nvPr/>
          </p:nvSpPr>
          <p:spPr>
            <a:xfrm>
              <a:off x="539640" y="2349360"/>
              <a:ext cx="3961080" cy="3240000"/>
            </a:xfrm>
            <a:custGeom>
              <a:avLst/>
              <a:gdLst>
                <a:gd name="textAreaLeft" fmla="*/ 930960 w 3961080"/>
                <a:gd name="textAreaRight" fmla="*/ 3027600 w 3961080"/>
                <a:gd name="textAreaTop" fmla="*/ 380880 h 3240000"/>
                <a:gd name="textAreaBottom" fmla="*/ 2032200 h 3240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916360" y="2636640"/>
              <a:ext cx="1008000" cy="1009800"/>
              <a:chOff x="2916360" y="2636640"/>
              <a:chExt cx="1008000" cy="1009800"/>
            </a:xfrm>
          </p:grpSpPr>
          <p:sp>
            <p:nvSpPr>
              <p:cNvPr id="231" name=""/>
              <p:cNvSpPr/>
              <p:nvPr/>
            </p:nvSpPr>
            <p:spPr>
              <a:xfrm>
                <a:off x="2916360" y="2636640"/>
                <a:ext cx="1008000" cy="10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32360" y="3141720"/>
                <a:ext cx="504720" cy="50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187280" y="2565360"/>
              <a:ext cx="1008000" cy="1009080"/>
              <a:chOff x="1187280" y="2565360"/>
              <a:chExt cx="1008000" cy="1009080"/>
            </a:xfrm>
          </p:grpSpPr>
          <p:sp>
            <p:nvSpPr>
              <p:cNvPr id="234" name=""/>
              <p:cNvSpPr/>
              <p:nvPr/>
            </p:nvSpPr>
            <p:spPr>
              <a:xfrm>
                <a:off x="1187280" y="2565360"/>
                <a:ext cx="1008000" cy="10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3280" y="3070080"/>
                <a:ext cx="504720" cy="50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V="1" rot="3564600">
              <a:off x="2192400" y="2363040"/>
              <a:ext cx="1583280" cy="259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 txBox="1"/>
          <p:nvPr/>
        </p:nvSpPr>
        <p:spPr>
          <a:xfrm>
            <a:off x="4500720" y="3500280"/>
            <a:ext cx="23907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39640" y="1700280"/>
            <a:ext cx="3168720" cy="3168720"/>
            <a:chOff x="539640" y="1700280"/>
            <a:chExt cx="3168720" cy="3168720"/>
          </a:xfrm>
        </p:grpSpPr>
        <p:sp>
          <p:nvSpPr>
            <p:cNvPr id="239" name=""/>
            <p:cNvSpPr/>
            <p:nvPr/>
          </p:nvSpPr>
          <p:spPr>
            <a:xfrm>
              <a:off x="539640" y="1700280"/>
              <a:ext cx="3168720" cy="3168720"/>
            </a:xfrm>
            <a:custGeom>
              <a:avLst/>
              <a:gdLst>
                <a:gd name="textAreaLeft" fmla="*/ 723240 w 3168720"/>
                <a:gd name="textAreaRight" fmla="*/ 2445480 w 3168720"/>
                <a:gd name="textAreaTop" fmla="*/ 723240 h 3168720"/>
                <a:gd name="textAreaBottom" fmla="*/ 244548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4000" y="2276640"/>
              <a:ext cx="792000" cy="1225080"/>
              <a:chOff x="2124000" y="2276640"/>
              <a:chExt cx="792000" cy="1225080"/>
            </a:xfrm>
          </p:grpSpPr>
          <p:sp>
            <p:nvSpPr>
              <p:cNvPr id="241" name=""/>
              <p:cNvSpPr/>
              <p:nvPr/>
            </p:nvSpPr>
            <p:spPr>
              <a:xfrm>
                <a:off x="2124000" y="2276640"/>
                <a:ext cx="792000" cy="122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68360" y="2925720"/>
                <a:ext cx="576360" cy="57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258920" y="2276640"/>
              <a:ext cx="792000" cy="1225080"/>
              <a:chOff x="1258920" y="2276640"/>
              <a:chExt cx="792000" cy="1225080"/>
            </a:xfrm>
          </p:grpSpPr>
          <p:sp>
            <p:nvSpPr>
              <p:cNvPr id="244" name=""/>
              <p:cNvSpPr/>
              <p:nvPr/>
            </p:nvSpPr>
            <p:spPr>
              <a:xfrm>
                <a:off x="1258920" y="2276640"/>
                <a:ext cx="792000" cy="122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03280" y="2925720"/>
                <a:ext cx="576360" cy="57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971640" y="3716280"/>
              <a:ext cx="2303280" cy="6494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 txBox="1"/>
          <p:nvPr/>
        </p:nvSpPr>
        <p:spPr>
          <a:xfrm>
            <a:off x="3348000" y="3860640"/>
            <a:ext cx="25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с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771640" y="549360"/>
            <a:ext cx="4060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ша семь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975280" y="1628640"/>
            <a:ext cx="3168720" cy="3168720"/>
            <a:chOff x="5975280" y="1628640"/>
            <a:chExt cx="3168720" cy="3168720"/>
          </a:xfrm>
        </p:grpSpPr>
        <p:sp>
          <p:nvSpPr>
            <p:cNvPr id="251" name=""/>
            <p:cNvSpPr/>
            <p:nvPr/>
          </p:nvSpPr>
          <p:spPr>
            <a:xfrm>
              <a:off x="5975280" y="1628640"/>
              <a:ext cx="3168720" cy="3168720"/>
            </a:xfrm>
            <a:custGeom>
              <a:avLst/>
              <a:gdLst>
                <a:gd name="textAreaLeft" fmla="*/ 723240 w 3168720"/>
                <a:gd name="textAreaRight" fmla="*/ 2445480 w 3168720"/>
                <a:gd name="textAreaTop" fmla="*/ 723240 h 3168720"/>
                <a:gd name="textAreaBottom" fmla="*/ 244548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600"/>
            </a:solidFill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559640" y="2205000"/>
              <a:ext cx="792000" cy="1225080"/>
              <a:chOff x="7559640" y="2205000"/>
              <a:chExt cx="792000" cy="1225080"/>
            </a:xfrm>
          </p:grpSpPr>
          <p:sp>
            <p:nvSpPr>
              <p:cNvPr id="253" name=""/>
              <p:cNvSpPr/>
              <p:nvPr/>
            </p:nvSpPr>
            <p:spPr>
              <a:xfrm>
                <a:off x="7559640" y="2205000"/>
                <a:ext cx="792000" cy="12236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04000" y="2854080"/>
                <a:ext cx="576360" cy="5760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694560" y="2205000"/>
              <a:ext cx="792000" cy="1225080"/>
              <a:chOff x="6694560" y="2205000"/>
              <a:chExt cx="792000" cy="1225080"/>
            </a:xfrm>
          </p:grpSpPr>
          <p:sp>
            <p:nvSpPr>
              <p:cNvPr id="256" name=""/>
              <p:cNvSpPr/>
              <p:nvPr/>
            </p:nvSpPr>
            <p:spPr>
              <a:xfrm>
                <a:off x="6694560" y="2205000"/>
                <a:ext cx="792000" cy="12236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38920" y="2854080"/>
                <a:ext cx="576360" cy="5760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407280" y="3644640"/>
              <a:ext cx="2303280" cy="649440"/>
            </a:xfrm>
            <a:prstGeom prst="flowChartDecision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0" y="2478240"/>
            <a:ext cx="2955240" cy="2462040"/>
            <a:chOff x="0" y="2478240"/>
            <a:chExt cx="2955240" cy="2462040"/>
          </a:xfrm>
        </p:grpSpPr>
        <p:sp>
          <p:nvSpPr>
            <p:cNvPr id="260" name=""/>
            <p:cNvSpPr/>
            <p:nvPr/>
          </p:nvSpPr>
          <p:spPr>
            <a:xfrm>
              <a:off x="0" y="2492280"/>
              <a:ext cx="2952720" cy="2448000"/>
            </a:xfrm>
            <a:custGeom>
              <a:avLst/>
              <a:gdLst>
                <a:gd name="textAreaLeft" fmla="*/ 693720 w 2952720"/>
                <a:gd name="textAreaRight" fmla="*/ 2256840 w 2952720"/>
                <a:gd name="textAreaTop" fmla="*/ 287640 h 2448000"/>
                <a:gd name="textAreaBottom" fmla="*/ 1535400 h 244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771560" y="2709000"/>
              <a:ext cx="751320" cy="762840"/>
              <a:chOff x="1771560" y="2709000"/>
              <a:chExt cx="751320" cy="762840"/>
            </a:xfrm>
          </p:grpSpPr>
          <p:sp>
            <p:nvSpPr>
              <p:cNvPr id="262" name=""/>
              <p:cNvSpPr/>
              <p:nvPr/>
            </p:nvSpPr>
            <p:spPr>
              <a:xfrm>
                <a:off x="1771560" y="2709000"/>
                <a:ext cx="751320" cy="76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32480" y="3090600"/>
                <a:ext cx="376200" cy="38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82760" y="2655360"/>
              <a:ext cx="751680" cy="762120"/>
              <a:chOff x="482760" y="2655360"/>
              <a:chExt cx="751680" cy="762120"/>
            </a:xfrm>
          </p:grpSpPr>
          <p:sp>
            <p:nvSpPr>
              <p:cNvPr id="265" name=""/>
              <p:cNvSpPr/>
              <p:nvPr/>
            </p:nvSpPr>
            <p:spPr>
              <a:xfrm>
                <a:off x="482760" y="2655360"/>
                <a:ext cx="751680" cy="76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3680" y="3036600"/>
                <a:ext cx="376200" cy="38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 rot="3564600">
              <a:off x="1221480" y="2518920"/>
              <a:ext cx="1196280" cy="193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411280" y="2205000"/>
            <a:ext cx="3889440" cy="1873440"/>
            <a:chOff x="2411280" y="2205000"/>
            <a:chExt cx="3889440" cy="1873440"/>
          </a:xfrm>
        </p:grpSpPr>
        <p:sp>
          <p:nvSpPr>
            <p:cNvPr id="269" name=""/>
            <p:cNvSpPr/>
            <p:nvPr/>
          </p:nvSpPr>
          <p:spPr>
            <a:xfrm>
              <a:off x="2411280" y="2205000"/>
              <a:ext cx="3889440" cy="1873440"/>
            </a:xfrm>
            <a:custGeom>
              <a:avLst/>
              <a:gdLst>
                <a:gd name="textAreaLeft" fmla="*/ 887760 w 3889440"/>
                <a:gd name="textAreaRight" fmla="*/ 3001680 w 3889440"/>
                <a:gd name="textAreaTop" fmla="*/ 427680 h 1873440"/>
                <a:gd name="textAreaBottom" fmla="*/ 144576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31800" y="2568600"/>
              <a:ext cx="802800" cy="624960"/>
            </a:xfrm>
            <a:custGeom>
              <a:avLst/>
              <a:gdLst>
                <a:gd name="textAreaLeft" fmla="*/ 330840 w 802800"/>
                <a:gd name="textAreaRight" fmla="*/ 471960 w 802800"/>
                <a:gd name="textAreaTop" fmla="*/ 257400 h 624960"/>
                <a:gd name="textAreaBottom" fmla="*/ 367560 h 62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9000" y="2568600"/>
              <a:ext cx="802800" cy="624960"/>
            </a:xfrm>
            <a:custGeom>
              <a:avLst/>
              <a:gdLst>
                <a:gd name="textAreaLeft" fmla="*/ 330840 w 802800"/>
                <a:gd name="textAreaRight" fmla="*/ 471960 w 802800"/>
                <a:gd name="textAreaTop" fmla="*/ 257400 h 624960"/>
                <a:gd name="textAreaBottom" fmla="*/ 367560 h 62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99080" y="3401640"/>
              <a:ext cx="926640" cy="311760"/>
            </a:xfrm>
            <a:custGeom>
              <a:avLst/>
              <a:gdLst>
                <a:gd name="textAreaLeft" fmla="*/ 0 w 926640"/>
                <a:gd name="textAreaRight" fmla="*/ 927000 w 926640"/>
                <a:gd name="textAreaTop" fmla="*/ 40320 h 311760"/>
                <a:gd name="textAreaBottom" fmla="*/ 2714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71640" y="3500280"/>
            <a:ext cx="3168720" cy="2997360"/>
            <a:chOff x="2771640" y="3500280"/>
            <a:chExt cx="3168720" cy="2997360"/>
          </a:xfrm>
        </p:grpSpPr>
        <p:sp>
          <p:nvSpPr>
            <p:cNvPr id="274" name=""/>
            <p:cNvSpPr/>
            <p:nvPr/>
          </p:nvSpPr>
          <p:spPr>
            <a:xfrm>
              <a:off x="2771640" y="3500280"/>
              <a:ext cx="3168720" cy="2997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9840" y="408600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30160" y="450432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413316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8320" y="455148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1480" y="498384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338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3640" y="0"/>
            <a:ext cx="3600720" cy="32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6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Franklin Gothic Heavy"/>
              </a:rPr>
              <a:t>Мест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Franklin Gothic Heavy"/>
              <a:ea typeface="Franklin Gothic Heav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6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Franklin Gothic Heavy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6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Franklin Gothic Heavy"/>
              </a:rPr>
              <a:t>житель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Franklin Gothic Heavy"/>
              <a:ea typeface="Franklin Gothic Heavy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84360" y="234936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ё обо мн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76360" y="4076640"/>
            <a:ext cx="612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619280" y="2565360"/>
            <a:ext cx="6408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5280" y="1773360"/>
            <a:ext cx="5616720" cy="4653000"/>
            <a:chOff x="395280" y="1773360"/>
            <a:chExt cx="5616720" cy="4653000"/>
          </a:xfrm>
        </p:grpSpPr>
        <p:sp>
          <p:nvSpPr>
            <p:cNvPr id="91" name=""/>
            <p:cNvSpPr/>
            <p:nvPr/>
          </p:nvSpPr>
          <p:spPr>
            <a:xfrm>
              <a:off x="395280" y="1773360"/>
              <a:ext cx="5616720" cy="4653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63760" y="2682720"/>
              <a:ext cx="792360" cy="129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5400" y="3332160"/>
              <a:ext cx="64764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5400" y="2755800"/>
              <a:ext cx="792360" cy="129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67040" y="3405240"/>
              <a:ext cx="64764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6360" y="4076640"/>
              <a:ext cx="2855880" cy="134316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716360" y="476280"/>
            <a:ext cx="3384720" cy="2305080"/>
          </a:xfrm>
          <a:prstGeom prst="wedgeEllipseCallout">
            <a:avLst>
              <a:gd name="adj1" fmla="val -72000"/>
              <a:gd name="adj2" fmla="val 11405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рив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Рада вас виде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читайте пожалуйста историю произошедшую со мной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62064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еню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96000" y="5084640"/>
            <a:ext cx="2727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ле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905120"/>
            <a:ext cx="490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Я живу в тридцатой школе. Мне там очень нравится, потому что там весёлые учителя и добрые ученик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5280" y="3500280"/>
            <a:ext cx="3168720" cy="2997360"/>
            <a:chOff x="395280" y="3500280"/>
            <a:chExt cx="3168720" cy="2997360"/>
          </a:xfrm>
        </p:grpSpPr>
        <p:sp>
          <p:nvSpPr>
            <p:cNvPr id="103" name=""/>
            <p:cNvSpPr/>
            <p:nvPr/>
          </p:nvSpPr>
          <p:spPr>
            <a:xfrm>
              <a:off x="395280" y="3500280"/>
              <a:ext cx="3168720" cy="2997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3480" y="408600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3800" y="450432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280" y="413316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81960" y="455148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05120" y="498384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84720" y="5048280"/>
            <a:ext cx="1819080" cy="180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95280" y="404640"/>
            <a:ext cx="287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мен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72360" y="5300640"/>
            <a:ext cx="22161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ле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43280" y="1905120"/>
            <a:ext cx="224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давно я была в Японии. Мне очень понравились дом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7716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ен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681280"/>
            <a:ext cx="339264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3203640" y="2565360"/>
            <a:ext cx="3168720" cy="2997360"/>
            <a:chOff x="3203640" y="2565360"/>
            <a:chExt cx="3168720" cy="2997360"/>
          </a:xfrm>
        </p:grpSpPr>
        <p:sp>
          <p:nvSpPr>
            <p:cNvPr id="117" name=""/>
            <p:cNvSpPr/>
            <p:nvPr/>
          </p:nvSpPr>
          <p:spPr>
            <a:xfrm>
              <a:off x="3203640" y="2565360"/>
              <a:ext cx="3168720" cy="2997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21840" y="315108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2160" y="356940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49640" y="31982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90320" y="36165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3480" y="404892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 txBox="1"/>
          <p:nvPr/>
        </p:nvSpPr>
        <p:spPr>
          <a:xfrm>
            <a:off x="4572000" y="5560920"/>
            <a:ext cx="22161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ле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40000" y="1905120"/>
            <a:ext cx="274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не очень нравится Париж и Эйфелева башня, которую я вижу на картине из кабинета географ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260280"/>
            <a:ext cx="25480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мен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492280"/>
            <a:ext cx="3168720" cy="2997360"/>
            <a:chOff x="0" y="2492280"/>
            <a:chExt cx="3168720" cy="2997360"/>
          </a:xfrm>
        </p:grpSpPr>
        <p:sp>
          <p:nvSpPr>
            <p:cNvPr id="128" name=""/>
            <p:cNvSpPr/>
            <p:nvPr/>
          </p:nvSpPr>
          <p:spPr>
            <a:xfrm>
              <a:off x="0" y="2492280"/>
              <a:ext cx="3168720" cy="2997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8200" y="307800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58520" y="349632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6000" y="312516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680" y="354348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840" y="397584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00360" y="1268280"/>
            <a:ext cx="3141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очень люблю путешествовать – это очень интересно и познавательно!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 следующем году я полечу в космос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5280" y="3500280"/>
            <a:ext cx="3168720" cy="2997360"/>
            <a:chOff x="395280" y="3500280"/>
            <a:chExt cx="3168720" cy="2997360"/>
          </a:xfrm>
        </p:grpSpPr>
        <p:sp>
          <p:nvSpPr>
            <p:cNvPr id="137" name=""/>
            <p:cNvSpPr/>
            <p:nvPr/>
          </p:nvSpPr>
          <p:spPr>
            <a:xfrm>
              <a:off x="395280" y="3500280"/>
              <a:ext cx="3168720" cy="299736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13480" y="408600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3800" y="450432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41280" y="413316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81960" y="455148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5120" y="498384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50920" y="260280"/>
            <a:ext cx="360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мен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372360" y="4770360"/>
            <a:ext cx="24811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ле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ажды ночью я проснулась от странного шу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16000" y="0"/>
            <a:ext cx="612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21080" y="2136600"/>
            <a:ext cx="420516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поплыла на улицу и увидена пришельцев. Я очень испугалас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73400" cy="238608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539640" y="3141720"/>
            <a:ext cx="3168720" cy="2997000"/>
            <a:chOff x="539640" y="3141720"/>
            <a:chExt cx="3168720" cy="2997000"/>
          </a:xfrm>
        </p:grpSpPr>
        <p:sp>
          <p:nvSpPr>
            <p:cNvPr id="154" name=""/>
            <p:cNvSpPr/>
            <p:nvPr/>
          </p:nvSpPr>
          <p:spPr>
            <a:xfrm>
              <a:off x="539640" y="3141720"/>
              <a:ext cx="3168720" cy="2997000"/>
            </a:xfrm>
            <a:prstGeom prst="irregularSeal1">
              <a:avLst/>
            </a:prstGeom>
            <a:solidFill>
              <a:srgbClr val="ff0000"/>
            </a:solidFill>
            <a:ln w="7632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57840" y="37274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8160" y="41457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85640" y="3774240"/>
              <a:ext cx="446760" cy="83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6320" y="4192560"/>
              <a:ext cx="365040" cy="41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4625280"/>
              <a:ext cx="1611000" cy="865080"/>
            </a:xfrm>
            <a:custGeom>
              <a:avLst/>
              <a:gdLst/>
              <a:ahLst/>
              <a:rect l="l" t="t" r="r" b="b"/>
              <a:pathLst>
                <a:path w="1799" h="846">
                  <a:moveTo>
                    <a:pt x="83" y="121"/>
                  </a:moveTo>
                  <a:cubicBezTo>
                    <a:pt x="166" y="0"/>
                    <a:pt x="1451" y="0"/>
                    <a:pt x="1625" y="121"/>
                  </a:cubicBezTo>
                  <a:cubicBezTo>
                    <a:pt x="1799" y="242"/>
                    <a:pt x="1383" y="846"/>
                    <a:pt x="1126" y="846"/>
                  </a:cubicBezTo>
                  <a:cubicBezTo>
                    <a:pt x="869" y="846"/>
                    <a:pt x="0" y="242"/>
                    <a:pt x="83" y="121"/>
                  </a:cubicBezTo>
                  <a:close/>
                </a:path>
              </a:pathLst>
            </a:custGeom>
            <a:solidFill>
              <a:srgbClr val="ff3399"/>
            </a:solidFill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01:36:44Z</dcterms:created>
  <dc:creator>Владимир Евсюков</dc:creator>
  <dc:description/>
  <dc:language>en-US</dc:language>
  <cp:lastModifiedBy>Владимир Евсюков</cp:lastModifiedBy>
  <dcterms:modified xsi:type="dcterms:W3CDTF">2008-05-10T03:32:45Z</dcterms:modified>
  <cp:revision>4</cp:revision>
  <dc:subject/>
  <dc:title>Слайд 1</dc:title>
</cp:coreProperties>
</file>