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18CB-6947-41AE-BE17-10738926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43A8-7818-4B13-B867-BAE73D3B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1252-72AD-478D-BC79-A4CD3353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301F-09F3-4FC1-971D-C2E1B1C1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E3FE-0638-4EA2-9A9F-66429CE9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90C5-6F90-4846-B8E6-1ED592A5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7895-4083-4A14-BE62-54CB07A7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1CC6-9300-41C1-BDCE-9D727D72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A2FE-55C2-4161-B2AF-76EB2B6A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8AF0-243D-440C-92F2-D8A7CD9F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C920-1F1C-4722-A1AC-074CA7F9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1C4C-714A-4E5E-B34F-2F65317D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D841-D5B0-423F-BF1D-C70E4484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6C02-98A3-4FC9-BF53-A7C8C628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DA5D-7BA0-4AAF-9155-332FB5FA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5DB9-FFD6-4E4E-B404-8550A713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07F2-8BCB-48B7-B418-1C10C1107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990E-DC7B-4719-BE53-93685A68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343B-C024-4A99-A75F-925CD86C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DFCF-7762-45D9-8839-1922454F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5724-A89E-4010-AA98-7792443B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86E3-B3E8-4163-9621-47A14FDF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4099-A36E-4C68-B600-49B7CB57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C4F4-E69A-4199-B990-C3EFEC86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BD97-F090-467D-A71E-B8005AA849B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2275-1ECF-4176-8F85-C665CBB465F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6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Открытый урок по физике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16360" y="2852280"/>
            <a:ext cx="40132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рок проводится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в 8 «А» классе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                                                                              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                                                    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читель: Горина Г.Г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050920" y="836640"/>
          <a:ext cx="670716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836640"/>
                    <a:ext cx="67071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Экспериментально полученные закономер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При последовательном соединении сила тока в любых частях цепи одна и та же: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 = I1 = I 2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Полное напряжение в цепи при последовательном соединении равно сумме напряжений на отдельных участках цепи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U = U1 + U2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Используя результаты измерений, вычислите сопротивление первой спирали R1 , второй спирали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2 и общее сопротивление R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2509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 = 1 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1 = 0,4 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2 = 0,6 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= 0,5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35280" y="2361960"/>
            <a:ext cx="5508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=U/I=1B/0,5A=2 O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1=U1/I=0,4B/0,5A=0,8 O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2=U2/I=0,6B/0,5A=1,2 O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0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равните сопротивления R, R1, R2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делайте вывод о соотношении между ними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бщее сопротивление цепи при последовательном соединении равно сумме сопротивлений отдельных проводников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=R1+R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762120" y="762120"/>
          <a:ext cx="7924680" cy="583560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184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следовательное соединение проводников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= I1 = I2 = I3 = … = I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 = U1 + U2 + U3 +…+ U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 = R1 + R2 + R3 +…+ Rn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476360" y="2781360"/>
          <a:ext cx="210492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81360"/>
                    <a:ext cx="210492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З а д а н и е  2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26920" y="249228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оберите цепь, состоящую из гальванического элемента, двух электрических лампочек, двух ключей и соединительных проводов , так, чтобы каждую лампочку можно было включать отдельно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чертите схему цеп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619280" y="836640"/>
          <a:ext cx="6567480" cy="53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836640"/>
                    <a:ext cx="656748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Закономерности параллельного соединения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227628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Arial"/>
              </a:rPr>
              <a:t>Напряжение на участке цепи и на концах всех параллельно соединенных проводников одно и то же: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3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U</a:t>
            </a: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 =</a:t>
            </a: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 U</a:t>
            </a: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1 = </a:t>
            </a: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U</a:t>
            </a: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Arial"/>
              </a:rPr>
              <a:t>Сила тока в неразветвленной части цепи равна сумме сил токов в отдельных параллельно соединенных проводниках: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3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 = </a:t>
            </a: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1 + </a:t>
            </a: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3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252108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755640" y="765000"/>
          <a:ext cx="8053200" cy="5745240"/>
        </p:xfrm>
        <a:graphic>
          <a:graphicData uri="http://schemas.openxmlformats.org/drawingml/2006/table">
            <a:tbl>
              <a:tblPr/>
              <a:tblGrid>
                <a:gridCol w="4029120"/>
                <a:gridCol w="40240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следовательное соединение проводников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араллельное соединение проводников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= I1 = I2 = I3 = … = I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 = U1 + U2 + U3 + … + U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 = R1 + R2 + R3 + … + R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= I1 + I2 + I3 + … + I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 = U1 = U2 = U3 = … = U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651640" y="2421000"/>
            <a:ext cx="2374920" cy="1996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Кубик</a:t>
            </a:r>
            <a:r>
              <a:rPr b="1" lang="en-US" sz="54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 с задачами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2707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1</a:t>
            </a:r>
            <a:r>
              <a:rPr b="0" lang="en-US" sz="9600" spc="-1" strike="noStrike" u="sng">
                <a:solidFill>
                  <a:srgbClr val="003366"/>
                </a:solidFill>
                <a:uFillTx/>
                <a:latin typeface="Arial"/>
              </a:rPr>
              <a:t>       </a:t>
            </a:r>
            <a:r>
              <a:rPr b="0" lang="en-US" sz="96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2</a:t>
            </a:r>
            <a:r>
              <a:rPr b="0" lang="en-US" sz="9600" spc="-1" strike="noStrike" u="sng">
                <a:solidFill>
                  <a:srgbClr val="003366"/>
                </a:solidFill>
                <a:uFillTx/>
                <a:latin typeface="Arial"/>
              </a:rPr>
              <a:t>       </a:t>
            </a:r>
            <a:r>
              <a:rPr b="0" lang="en-US" sz="96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3</a:t>
            </a:r>
            <a:endParaRPr b="0" lang="en-US" sz="9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4</a:t>
            </a:r>
            <a:r>
              <a:rPr b="0" lang="en-US" sz="9600" spc="-1" strike="noStrike" u="sng">
                <a:solidFill>
                  <a:srgbClr val="003366"/>
                </a:solidFill>
                <a:uFillTx/>
                <a:latin typeface="Arial"/>
              </a:rPr>
              <a:t>       </a:t>
            </a:r>
            <a:r>
              <a:rPr b="0" lang="en-US" sz="9600" spc="-1" strike="noStrike" u="sng">
                <a:solidFill>
                  <a:srgbClr val="003366"/>
                </a:solidFill>
                <a:uFillTx/>
                <a:latin typeface="Arial"/>
                <a:hlinkClick r:id="rId7" action="ppaction://hlinksldjump"/>
              </a:rPr>
              <a:t>5</a:t>
            </a:r>
            <a:r>
              <a:rPr b="0" lang="en-US" sz="9600" spc="-1" strike="noStrike" u="sng">
                <a:solidFill>
                  <a:srgbClr val="003366"/>
                </a:solidFill>
                <a:uFillTx/>
                <a:latin typeface="Arial"/>
              </a:rPr>
              <a:t>       </a:t>
            </a:r>
            <a:r>
              <a:rPr b="0" lang="en-US" sz="9600" spc="-1" strike="noStrike" u="sng">
                <a:solidFill>
                  <a:srgbClr val="003366"/>
                </a:solidFill>
                <a:uFillTx/>
                <a:latin typeface="Arial"/>
                <a:hlinkClick r:id="rId8" action="ppaction://hlinksldjump"/>
              </a:rPr>
              <a:t>6</a:t>
            </a:r>
            <a:endParaRPr b="0" lang="en-US" sz="9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Эпиграфы к уроку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920" y="242064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Не стыдно не знать, стыдно не учиться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(Русская пословица)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Без сомнения, все наши знания начинаются с опыт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Иммануил Кан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Задача № 1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88000" y="2781000"/>
            <a:ext cx="4132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=U/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=10B/2A=5 O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2=R-R1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2= 5 O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3 O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 2 O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55640" y="2349360"/>
          <a:ext cx="3960720" cy="396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2349360"/>
                    <a:ext cx="396072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ld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Задача № 2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859280" y="2707920"/>
            <a:ext cx="4500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=R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+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=5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+6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10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=U/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= 220B/110 O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2 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55640" y="2349360"/>
          <a:ext cx="4032360" cy="403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2349360"/>
                    <a:ext cx="403236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ld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Задача № 3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48360" y="2781000"/>
            <a:ext cx="3744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=U1/R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= 40B/20 O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2 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2=IR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2=2A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·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,5 O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3 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55640" y="2349360"/>
          <a:ext cx="4248000" cy="397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2349360"/>
                    <a:ext cx="4248000" cy="39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ld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Задача № 4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076360" y="27810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=I1R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=2 A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·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0 O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40 B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2=U/R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= 40B/10 O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4 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826920" y="2349360"/>
          <a:ext cx="4070520" cy="410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349360"/>
                    <a:ext cx="4070520" cy="41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ld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Задача № 5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148000" y="2781000"/>
            <a:ext cx="3995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=U/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=30B/3A=10 O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2=R-R1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2=10 O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5 O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5 O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26920" y="2276640"/>
          <a:ext cx="3969000" cy="40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276640"/>
                    <a:ext cx="396900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Задача № 6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859280" y="2362320"/>
            <a:ext cx="428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=U1/R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= 20B/10 O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2 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2=IR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2=2A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·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5 O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10 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=U1+U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=20B+10B=30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(U=IR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U=2A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·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15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Ом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=30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2349360"/>
          <a:ext cx="3887640" cy="374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2349360"/>
                    <a:ext cx="388764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Домашнее задание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§48, 49, упр. 22 (4), 23 (3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 основе полученных выражений для параллельного соединения проводников в электрической цепи, а также, используя закон Ома для участка цепи, попытайтесь получить выражение, позволяющее определить общее сопротивление цепи при параллельном соединении проводников в электрической цеп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27640" y="979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Физический диктант (задания)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812664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1. 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Закончите фразу: «Электрический ток – это …»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1192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Напишите единицы измерения: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2. силы тока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3. напряжения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4. сопротивления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5. удельного сопротивления в СИ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6. удельного сопротивления на практике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1192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Напишите формулы для определения: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7. силы тока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8. напряжения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9. сопротивления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10. Напишите формулу закона Ома для участка цепи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27640" y="979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Физический диктант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(ответы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49000"/>
            <a:ext cx="7693200" cy="37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лектрический ток – это упорядоченное (направленное) движение заряженных частиц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  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.  В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4.  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5.  Ом · 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6.  (Ом · мм²) / 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7.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8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9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ρ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0.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27640" y="979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Выставление оценок </a:t>
            </a: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за физический диктант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26920" y="2636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0 правильных ответов - оценка “5”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9 и 8 правильных ответов - оценка “4”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7 и 6 правильных ответов - оценка “3”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5 и меньше - прочерк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2360" y="837000"/>
            <a:ext cx="89992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Тема урока: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«Последовательное и параллельное соединения проводников»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Цели урока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формулировать законы последовательного и параллельного соединения проводников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учиться решать задачи на расчет параметров участка цепи с последовательным и параллельным соединениями проводник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6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96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27640" y="692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обозначают эти числа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&lt;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42 В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1 мА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&gt;100м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76360" y="2421000"/>
            <a:ext cx="377028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безопасное напряжен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не опасно для жизни челове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опасный ток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З а д а н и е  1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оберите цепь, состоящую из источника питания, двух резисторов, ключа, амперметра, вольтметра, соединительных проводов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ольтметр измеряет общее сопротивление на двух спираля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ачертите схему цеп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2764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Верна ли схема?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195640" y="1362240"/>
          <a:ext cx="5689440" cy="53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362240"/>
                    <a:ext cx="5689440" cy="53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8:19:39Z</dcterms:created>
  <dc:creator>Галя</dc:creator>
  <dc:description/>
  <dc:language>en-US</dc:language>
  <cp:lastModifiedBy>Галя</cp:lastModifiedBy>
  <dcterms:modified xsi:type="dcterms:W3CDTF">2008-03-04T00:05:02Z</dcterms:modified>
  <cp:revision>9</cp:revision>
  <dc:subject/>
  <dc:title>Последовательное и параллельное соединения проводников </dc:title>
</cp:coreProperties>
</file>