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10.wmf" ContentType="image/x-wmf"/>
  <Override PartName="/ppt/media/image25.jpeg" ContentType="image/jpeg"/>
  <Override PartName="/ppt/media/image7.jpeg" ContentType="image/jpeg"/>
  <Override PartName="/ppt/media/image28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02BC-DD14-4CA6-9113-C376C82E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578F-7C0C-468C-8326-25ADEA8A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787A-CE62-4DB6-B1AB-1B11834E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6ECB-CAB5-4A50-81AF-FA41839F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B63E-12BA-4FB9-A40B-5FC5B9B6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8E60-1263-444B-857F-6BC657C6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200E-8D45-4C41-AA44-24173BA7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FFDE-CCBB-4160-9DCB-44B2FA3A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969A-C00F-4064-82FB-365E578B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6508-7070-4964-ABEF-15AB86B0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FB93-59A5-4005-9A65-F31E2651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9A4D-0A09-44B3-A0F5-B6C2EBF3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FA3C-FDC3-49DA-B10A-E91CD4A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167D-46EE-4A34-A8A1-E0CD6EE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876F-18AB-4E93-B2B2-31333E04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34E0-A284-474E-BCF6-E529C153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6A47-283A-433E-9344-5B308DC2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F785-13A1-48ED-8FAE-4E48C3DA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4D74-FDAE-480F-AE87-EBC35571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557E-0D73-4E4C-934B-11249304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C75C-50E7-4380-A6B3-F062710F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27AA-4583-4873-8EED-13C876D5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99AF-2730-4644-AC47-B8D9630A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A9658-E451-4DEB-B519-002F2903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E285-F714-403C-BCE2-6FC51792C3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4A9E-4C08-4DF7-901C-64B2D73A2C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2.wmf"/><Relationship Id="rId2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buClr>
                <a:srgbClr val="00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cc"/>
                </a:solidFill>
                <a:latin typeface="Monotype Corsiva"/>
              </a:rPr>
              <a:t>Времена года</a:t>
            </a:r>
            <a:endParaRPr b="0" lang="en-US" sz="80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Monotype Corsiva"/>
              </a:rPr>
              <a:t>Зима, весна, лето, ос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43280" y="3481560"/>
            <a:ext cx="4500720" cy="3376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 rot="5400000">
            <a:off x="1477080" y="5515560"/>
            <a:ext cx="1547640" cy="542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сен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093080" y="0"/>
            <a:ext cx="15634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ес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4" name=""/>
          <p:cNvSpPr txBox="1"/>
          <p:nvPr/>
        </p:nvSpPr>
        <p:spPr>
          <a:xfrm rot="5400000">
            <a:off x="8161920" y="3939120"/>
            <a:ext cx="1420920" cy="542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Лет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187280" y="404640"/>
            <a:ext cx="166392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им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checke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40360" cy="3116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3106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348000" y="0"/>
            <a:ext cx="2808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4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Зи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5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0" y="3141720"/>
            <a:ext cx="4140360" cy="3716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381960" y="-1440"/>
            <a:ext cx="2832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8e"/>
                </a:solidFill>
                <a:latin typeface="Monotype Corsiva"/>
              </a:rPr>
              <a:t>Чудная картина,</a:t>
            </a:r>
            <a:br>
              <a:rPr sz="2000"/>
            </a:br>
            <a:r>
              <a:rPr b="1" i="1" lang="en-US" sz="2000" spc="-1" strike="noStrike">
                <a:solidFill>
                  <a:srgbClr val="00b08e"/>
                </a:solidFill>
                <a:latin typeface="Monotype Corsiva"/>
              </a:rPr>
              <a:t>Как ты мне родна:</a:t>
            </a:r>
            <a:br>
              <a:rPr sz="2000"/>
            </a:br>
            <a:r>
              <a:rPr b="1" i="1" lang="en-US" sz="2000" spc="-1" strike="noStrike">
                <a:solidFill>
                  <a:srgbClr val="00b08e"/>
                </a:solidFill>
                <a:latin typeface="Monotype Corsiva"/>
              </a:rPr>
              <a:t>Белая равнина,</a:t>
            </a:r>
            <a:br>
              <a:rPr sz="2000"/>
            </a:br>
            <a:r>
              <a:rPr b="1" i="1" lang="en-US" sz="2000" spc="-1" strike="noStrike">
                <a:solidFill>
                  <a:srgbClr val="00b08e"/>
                </a:solidFill>
                <a:latin typeface="Monotype Corsiva"/>
              </a:rPr>
              <a:t>Полная луна,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b08e"/>
                </a:solidFill>
                <a:latin typeface="Monotype Corsiva"/>
              </a:rPr>
              <a:t>Свет небес высоких,</a:t>
            </a:r>
            <a:br>
              <a:rPr sz="2000"/>
            </a:br>
            <a:r>
              <a:rPr b="1" i="1" lang="en-US" sz="2000" spc="-1" strike="noStrike">
                <a:solidFill>
                  <a:srgbClr val="00b08e"/>
                </a:solidFill>
                <a:latin typeface="Monotype Corsiva"/>
              </a:rPr>
              <a:t>И блестящий снег,</a:t>
            </a:r>
            <a:br>
              <a:rPr sz="2000"/>
            </a:br>
            <a:r>
              <a:rPr b="1" i="1" lang="en-US" sz="2000" spc="-1" strike="noStrike">
                <a:solidFill>
                  <a:srgbClr val="00b08e"/>
                </a:solidFill>
                <a:latin typeface="Monotype Corsiva"/>
              </a:rPr>
              <a:t>И саней далеких</a:t>
            </a:r>
            <a:br>
              <a:rPr sz="2000"/>
            </a:br>
            <a:r>
              <a:rPr b="1" i="1" lang="en-US" sz="2000" spc="-1" strike="noStrike">
                <a:solidFill>
                  <a:srgbClr val="00b08e"/>
                </a:solidFill>
                <a:latin typeface="Monotype Corsiva"/>
              </a:rPr>
              <a:t>Одинокий бег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067280" y="2781360"/>
          <a:ext cx="1152360" cy="109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2781360"/>
                    <a:ext cx="11523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012000" y="3645000"/>
          <a:ext cx="115236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3645000"/>
                    <a:ext cx="11523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667640" y="3429000"/>
          <a:ext cx="930240" cy="96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7640" y="3429000"/>
                    <a:ext cx="93024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924360" y="1052640"/>
          <a:ext cx="860400" cy="89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1052640"/>
                    <a:ext cx="86040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11280" y="3141720"/>
          <a:ext cx="861840" cy="89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3141720"/>
                    <a:ext cx="8618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732720" y="620640"/>
          <a:ext cx="930240" cy="96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32720" y="620640"/>
                    <a:ext cx="93024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796000" y="5589720"/>
          <a:ext cx="930240" cy="966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6000" y="5589720"/>
                    <a:ext cx="93024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5013360"/>
          <a:ext cx="930240" cy="966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71640" y="5013360"/>
                    <a:ext cx="93024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741 0.00329 -0.01297 0.00659 -0.01945 C 0.00868 -0.02824 0.01232 -0.03148 0.01788 -0.03658 C 0.01892 -0.03866 0.01944 -0.04167 0.021 -0.04306 C 0.02222 -0.04422 0.03593 -0.04977 0.03871 -0.05162 C 0.04618 -0.05093 0.05399 -0.05162 0.06128 -0.04954 C 0.06961 -0.04722 0.07378 -0.02871 0.07916 -0.02153 C 0.08368 -0.00903 0.09132 0.00278 0.1 0.01065 C 0.10972 0.00995 0.11961 0.01088 0.12916 0.00856 C 0.13298 0.00764 0.13507 0.00162 0.13871 0 C 0.14218 -0.00926 0.14652 -0.01343 0.14843 -0.02361 C 0.14791 -0.03287 0.14895 -0.0426 0.14687 -0.05162 C 0.146 -0.0551 0.14201 -0.0551 0.14045 -0.0581 C 0.13923 -0.06042 0.13993 -0.06412 0.13871 -0.06667 C 0.13559 -0.07338 0.12864 -0.08241 0.1243 -0.0882 C 0.1217 -0.09908 0.11684 -0.1081 0.11302 -0.11829 C 0.10538 -0.16551 0.1092 -0.19838 0.14357 -0.21088 C 0.16007 -0.225 0.1842 -0.20996 0.19843 -0.1956 C 0.20034 -0.18797 0.20382 -0.18172 0.20659 -0.17431 C 0.20989 -0.15556 0.21562 -0.14236 0.2243 -0.12685 C 0.22708 -0.12199 0.22882 -0.11574 0.23229 -0.11181 C 0.24236 -0.1007 0.26423 -0.09815 0.27586 -0.09676 C 0.3085 -0.09931 0.29774 -0.09746 0.31944 -0.10764 C 0.3243 -0.11389 0.32691 -0.11829 0.32916 -0.12685 C 0.33298 -0.1581 0.33645 -0.18889 0.34201 -0.21945 C 0.3427 -0.22292 0.34253 -0.22685 0.34357 -0.2301 C 0.34548 -0.23565 0.34895 -0.24028 0.35173 -0.24514 C 0.36145 -0.26227 0.36944 -0.27732 0.38229 -0.29028 C 0.38854 -0.29653 0.39618 -0.30023 0.40173 -0.30764 C 0.40902 -0.31736 0.41232 -0.32593 0.42586 -0.32685 C 0.43559 -0.32755 0.44514 -0.32824 0.45486 -0.32894 C 0.46649 -0.33426 0.4618 -0.33079 0.46944 -0.33773 C 0.47152 -0.3419 0.47465 -0.3456 0.47586 -0.35047 C 0.4776 -0.35787 0.47621 -0.35533 0.47916 -0.35926 E">
                                      <p:cBhvr>
                                        <p:cTn id="10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741 0.00329 -0.01297 0.00659 -0.01945 C 0.00868 -0.02824 0.01232 -0.03148 0.01788 -0.03658 C 0.01892 -0.03866 0.01944 -0.04167 0.021 -0.04306 C 0.02222 -0.04422 0.03593 -0.04977 0.03871 -0.05162 C 0.04618 -0.05093 0.05399 -0.05162 0.06128 -0.04954 C 0.06961 -0.04722 0.07378 -0.02871 0.07916 -0.02153 C 0.08368 -0.00903 0.09132 0.00278 0.1 0.01065 C 0.10972 0.00995 0.11961 0.01088 0.12916 0.00856 C 0.13298 0.00764 0.13507 0.00162 0.13871 0 C 0.14218 -0.00926 0.14652 -0.01343 0.14843 -0.02361 C 0.14791 -0.03287 0.14895 -0.0426 0.14687 -0.05162 C 0.146 -0.0551 0.14201 -0.0551 0.14045 -0.0581 C 0.13923 -0.06042 0.13993 -0.06412 0.13871 -0.06667 C 0.13559 -0.07338 0.12864 -0.08241 0.1243 -0.0882 C 0.1217 -0.09908 0.11684 -0.1081 0.11302 -0.11829 C 0.10538 -0.16551 0.1092 -0.19838 0.14357 -0.21088 C 0.16007 -0.225 0.1842 -0.20996 0.19843 -0.1956 C 0.20034 -0.18797 0.20382 -0.18172 0.20659 -0.17431 C 0.20989 -0.15556 0.21562 -0.14236 0.2243 -0.12685 C 0.22708 -0.12199 0.22882 -0.11574 0.23229 -0.11181 C 0.24236 -0.1007 0.26423 -0.09815 0.27586 -0.09676 C 0.3085 -0.09931 0.29774 -0.09746 0.31944 -0.10764 C 0.3243 -0.11389 0.32691 -0.11829 0.32916 -0.12685 C 0.33298 -0.1581 0.33645 -0.18889 0.34201 -0.21945 C 0.3427 -0.22292 0.34253 -0.22685 0.34357 -0.2301 C 0.34548 -0.23565 0.34895 -0.24028 0.35173 -0.24514 C 0.36145 -0.26227 0.36944 -0.27732 0.38229 -0.29028 C 0.38854 -0.29653 0.39618 -0.30023 0.40173 -0.30764 C 0.40902 -0.31736 0.41232 -0.32593 0.42586 -0.32685 C 0.43559 -0.32755 0.44514 -0.32824 0.45486 -0.32894 C 0.46649 -0.33426 0.4618 -0.33079 0.46944 -0.33773 C 0.47152 -0.3419 0.47465 -0.3456 0.47586 -0.35047 C 0.4776 -0.35787 0.47621 -0.35533 0.47916 -0.35926 E">
                                      <p:cBhvr>
                                        <p:cTn id="11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741 0.00329 -0.01297 0.00659 -0.01945 C 0.00868 -0.02824 0.01232 -0.03148 0.01788 -0.03658 C 0.01892 -0.03866 0.01944 -0.04167 0.021 -0.04306 C 0.02222 -0.04422 0.03593 -0.04977 0.03871 -0.05162 C 0.04618 -0.05093 0.05399 -0.05162 0.06128 -0.04954 C 0.06961 -0.04722 0.07378 -0.02871 0.07916 -0.02153 C 0.08368 -0.00903 0.09132 0.00278 0.1 0.01065 C 0.10972 0.00995 0.11961 0.01088 0.12916 0.00856 C 0.13298 0.00764 0.13507 0.00162 0.13871 0 C 0.14218 -0.00926 0.14652 -0.01343 0.14843 -0.02361 C 0.14791 -0.03287 0.14895 -0.0426 0.14687 -0.05162 C 0.146 -0.0551 0.14201 -0.0551 0.14045 -0.0581 C 0.13923 -0.06042 0.13993 -0.06412 0.13871 -0.06667 C 0.13559 -0.07338 0.12864 -0.08241 0.1243 -0.0882 C 0.1217 -0.09908 0.11684 -0.1081 0.11302 -0.11829 C 0.10538 -0.16551 0.1092 -0.19838 0.14357 -0.21088 C 0.16007 -0.225 0.1842 -0.20996 0.19843 -0.1956 C 0.20034 -0.18797 0.20382 -0.18172 0.20659 -0.17431 C 0.20989 -0.15556 0.21562 -0.14236 0.2243 -0.12685 C 0.22708 -0.12199 0.22882 -0.11574 0.23229 -0.11181 C 0.24236 -0.1007 0.26423 -0.09815 0.27586 -0.09676 C 0.3085 -0.09931 0.29774 -0.09746 0.31944 -0.10764 C 0.3243 -0.11389 0.32691 -0.11829 0.32916 -0.12685 C 0.33298 -0.1581 0.33645 -0.18889 0.34201 -0.21945 C 0.3427 -0.22292 0.34253 -0.22685 0.34357 -0.2301 C 0.34548 -0.23565 0.34895 -0.24028 0.35173 -0.24514 C 0.36145 -0.26227 0.36944 -0.27732 0.38229 -0.29028 C 0.38854 -0.29653 0.39618 -0.30023 0.40173 -0.30764 C 0.40902 -0.31736 0.41232 -0.32593 0.42586 -0.32685 C 0.43559 -0.32755 0.44514 -0.32824 0.45486 -0.32894 C 0.46649 -0.33426 0.4618 -0.33079 0.46944 -0.33773 C 0.47152 -0.3419 0.47465 -0.3456 0.47586 -0.35047 C 0.4776 -0.35787 0.47621 -0.35533 0.47916 -0.35926 E">
                                      <p:cBhvr>
                                        <p:cTn id="11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741 0.00329 -0.01297 0.00659 -0.01945 C 0.00868 -0.02824 0.01232 -0.03148 0.01788 -0.03658 C 0.01892 -0.03866 0.01944 -0.04167 0.021 -0.04306 C 0.02222 -0.04422 0.03593 -0.04977 0.03871 -0.05162 C 0.04618 -0.05093 0.05399 -0.05162 0.06128 -0.04954 C 0.06961 -0.04722 0.07378 -0.02871 0.07916 -0.02153 C 0.08368 -0.00903 0.09132 0.00278 0.1 0.01065 C 0.10972 0.00995 0.11961 0.01088 0.12916 0.00856 C 0.13298 0.00764 0.13507 0.00162 0.13871 0 C 0.14218 -0.00926 0.14652 -0.01343 0.14843 -0.02361 C 0.14791 -0.03287 0.14895 -0.0426 0.14687 -0.05162 C 0.146 -0.0551 0.14201 -0.0551 0.14045 -0.0581 C 0.13923 -0.06042 0.13993 -0.06412 0.13871 -0.06667 C 0.13559 -0.07338 0.12864 -0.08241 0.1243 -0.0882 C 0.1217 -0.09908 0.11684 -0.1081 0.11302 -0.11829 C 0.10538 -0.16551 0.1092 -0.19838 0.14357 -0.21088 C 0.16007 -0.225 0.1842 -0.20996 0.19843 -0.1956 C 0.20034 -0.18797 0.20382 -0.18172 0.20659 -0.17431 C 0.20989 -0.15556 0.21562 -0.14236 0.2243 -0.12685 C 0.22708 -0.12199 0.22882 -0.11574 0.23229 -0.11181 C 0.24236 -0.1007 0.26423 -0.09815 0.27586 -0.09676 C 0.3085 -0.09931 0.29774 -0.09746 0.31944 -0.10764 C 0.3243 -0.11389 0.32691 -0.11829 0.32916 -0.12685 C 0.33298 -0.1581 0.33645 -0.18889 0.34201 -0.21945 C 0.3427 -0.22292 0.34253 -0.22685 0.34357 -0.2301 C 0.34548 -0.23565 0.34895 -0.24028 0.35173 -0.24514 C 0.36145 -0.26227 0.36944 -0.27732 0.38229 -0.29028 C 0.38854 -0.29653 0.39618 -0.30023 0.40173 -0.30764 C 0.40902 -0.31736 0.41232 -0.32593 0.42586 -0.32685 C 0.43559 -0.32755 0.44514 -0.32824 0.45486 -0.32894 C 0.46649 -0.33426 0.4618 -0.33079 0.46944 -0.33773 C 0.47152 -0.3419 0.47465 -0.3456 0.47586 -0.35047 C 0.4776 -0.35787 0.47621 -0.35533 0.47916 -0.35926 E">
                                      <p:cBhvr>
                                        <p:cTn id="11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741 0.00329 -0.01297 0.00659 -0.01945 C 0.00868 -0.02824 0.01232 -0.03148 0.01788 -0.03658 C 0.01892 -0.03866 0.01944 -0.04167 0.021 -0.04306 C 0.02222 -0.04422 0.03593 -0.04977 0.03871 -0.05162 C 0.04618 -0.05093 0.05399 -0.05162 0.06128 -0.04954 C 0.06961 -0.04722 0.07378 -0.02871 0.07916 -0.02153 C 0.08368 -0.00903 0.09132 0.00278 0.1 0.01065 C 0.10972 0.00995 0.11961 0.01088 0.12916 0.00856 C 0.13298 0.00764 0.13507 0.00162 0.13871 0 C 0.14218 -0.00926 0.14652 -0.01343 0.14843 -0.02361 C 0.14791 -0.03287 0.14895 -0.0426 0.14687 -0.05162 C 0.146 -0.0551 0.14201 -0.0551 0.14045 -0.0581 C 0.13923 -0.06042 0.13993 -0.06412 0.13871 -0.06667 C 0.13559 -0.07338 0.12864 -0.08241 0.1243 -0.0882 C 0.1217 -0.09908 0.11684 -0.1081 0.11302 -0.11829 C 0.10538 -0.16551 0.1092 -0.19838 0.14357 -0.21088 C 0.16007 -0.225 0.1842 -0.20996 0.19843 -0.1956 C 0.20034 -0.18797 0.20382 -0.18172 0.20659 -0.17431 C 0.20989 -0.15556 0.21562 -0.14236 0.2243 -0.12685 C 0.22708 -0.12199 0.22882 -0.11574 0.23229 -0.11181 C 0.24236 -0.1007 0.26423 -0.09815 0.27586 -0.09676 C 0.3085 -0.09931 0.29774 -0.09746 0.31944 -0.10764 C 0.3243 -0.11389 0.32691 -0.11829 0.32916 -0.12685 C 0.33298 -0.1581 0.33645 -0.18889 0.34201 -0.21945 C 0.3427 -0.22292 0.34253 -0.22685 0.34357 -0.2301 C 0.34548 -0.23565 0.34895 -0.24028 0.35173 -0.24514 C 0.36145 -0.26227 0.36944 -0.27732 0.38229 -0.29028 C 0.38854 -0.29653 0.39618 -0.30023 0.40173 -0.30764 C 0.40902 -0.31736 0.41232 -0.32593 0.42586 -0.32685 C 0.43559 -0.32755 0.44514 -0.32824 0.45486 -0.32894 C 0.46649 -0.33426 0.4618 -0.33079 0.46944 -0.33773 C 0.47152 -0.3419 0.47465 -0.3456 0.47586 -0.35047 C 0.4776 -0.35787 0.47621 -0.35533 0.47916 -0.35926 E">
                                      <p:cBhvr>
                                        <p:cTn id="11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741 0.00329 -0.01297 0.00659 -0.01945 C 0.00868 -0.02824 0.01232 -0.03148 0.01788 -0.03658 C 0.01892 -0.03866 0.01944 -0.04167 0.021 -0.04306 C 0.02222 -0.04422 0.03593 -0.04977 0.03871 -0.05162 C 0.04618 -0.05093 0.05399 -0.05162 0.06128 -0.04954 C 0.06961 -0.04722 0.07378 -0.02871 0.07916 -0.02153 C 0.08368 -0.00903 0.09132 0.00278 0.1 0.01065 C 0.10972 0.00995 0.11961 0.01088 0.12916 0.00856 C 0.13298 0.00764 0.13507 0.00162 0.13871 0 C 0.14218 -0.00926 0.14652 -0.01343 0.14843 -0.02361 C 0.14791 -0.03287 0.14895 -0.0426 0.14687 -0.05162 C 0.146 -0.0551 0.14201 -0.0551 0.14045 -0.0581 C 0.13923 -0.06042 0.13993 -0.06412 0.13871 -0.06667 C 0.13559 -0.07338 0.12864 -0.08241 0.1243 -0.0882 C 0.1217 -0.09908 0.11684 -0.1081 0.11302 -0.11829 C 0.10538 -0.16551 0.1092 -0.19838 0.14357 -0.21088 C 0.16007 -0.225 0.1842 -0.20996 0.19843 -0.1956 C 0.20034 -0.18797 0.20382 -0.18172 0.20659 -0.17431 C 0.20989 -0.15556 0.21562 -0.14236 0.2243 -0.12685 C 0.22708 -0.12199 0.22882 -0.11574 0.23229 -0.11181 C 0.24236 -0.1007 0.26423 -0.09815 0.27586 -0.09676 C 0.3085 -0.09931 0.29774 -0.09746 0.31944 -0.10764 C 0.3243 -0.11389 0.32691 -0.11829 0.32916 -0.12685 C 0.33298 -0.1581 0.33645 -0.18889 0.34201 -0.21945 C 0.3427 -0.22292 0.34253 -0.22685 0.34357 -0.2301 C 0.34548 -0.23565 0.34895 -0.24028 0.35173 -0.24514 C 0.36145 -0.26227 0.36944 -0.27732 0.38229 -0.29028 C 0.38854 -0.29653 0.39618 -0.30023 0.40173 -0.30764 C 0.40902 -0.31736 0.41232 -0.32593 0.42586 -0.32685 C 0.43559 -0.32755 0.44514 -0.32824 0.45486 -0.32894 C 0.46649 -0.33426 0.4618 -0.33079 0.46944 -0.33773 C 0.47152 -0.3419 0.47465 -0.3456 0.47586 -0.35047 C 0.4776 -0.35787 0.47621 -0.35533 0.47916 -0.35926 E">
                                      <p:cBhvr>
                                        <p:cTn id="11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741 0.00329 -0.01297 0.00659 -0.01945 C 0.00868 -0.02824 0.01232 -0.03148 0.01788 -0.03658 C 0.01892 -0.03866 0.01944 -0.04167 0.021 -0.04306 C 0.02222 -0.04422 0.03593 -0.04977 0.03871 -0.05162 C 0.04618 -0.05093 0.05399 -0.05162 0.06128 -0.04954 C 0.06961 -0.04722 0.07378 -0.02871 0.07916 -0.02153 C 0.08368 -0.00903 0.09132 0.00278 0.1 0.01065 C 0.10972 0.00995 0.11961 0.01088 0.12916 0.00856 C 0.13298 0.00764 0.13507 0.00162 0.13871 0 C 0.14218 -0.00926 0.14652 -0.01343 0.14843 -0.02361 C 0.14791 -0.03287 0.14895 -0.0426 0.14687 -0.05162 C 0.146 -0.0551 0.14201 -0.0551 0.14045 -0.0581 C 0.13923 -0.06042 0.13993 -0.06412 0.13871 -0.06667 C 0.13559 -0.07338 0.12864 -0.08241 0.1243 -0.0882 C 0.1217 -0.09908 0.11684 -0.1081 0.11302 -0.11829 C 0.10538 -0.16551 0.1092 -0.19838 0.14357 -0.21088 C 0.16007 -0.225 0.1842 -0.20996 0.19843 -0.1956 C 0.20034 -0.18797 0.20382 -0.18172 0.20659 -0.17431 C 0.20989 -0.15556 0.21562 -0.14236 0.2243 -0.12685 C 0.22708 -0.12199 0.22882 -0.11574 0.23229 -0.11181 C 0.24236 -0.1007 0.26423 -0.09815 0.27586 -0.09676 C 0.3085 -0.09931 0.29774 -0.09746 0.31944 -0.10764 C 0.3243 -0.11389 0.32691 -0.11829 0.32916 -0.12685 C 0.33298 -0.1581 0.33645 -0.18889 0.34201 -0.21945 C 0.3427 -0.22292 0.34253 -0.22685 0.34357 -0.2301 C 0.34548 -0.23565 0.34895 -0.24028 0.35173 -0.24514 C 0.36145 -0.26227 0.36944 -0.27732 0.38229 -0.29028 C 0.38854 -0.29653 0.39618 -0.30023 0.40173 -0.30764 C 0.40902 -0.31736 0.41232 -0.32593 0.42586 -0.32685 C 0.43559 -0.32755 0.44514 -0.32824 0.45486 -0.32894 C 0.46649 -0.33426 0.4618 -0.33079 0.46944 -0.33773 C 0.47152 -0.3419 0.47465 -0.3456 0.47586 -0.35047 C 0.4776 -0.35787 0.47621 -0.35533 0.47916 -0.35926 E">
                                      <p:cBhvr>
                                        <p:cTn id="12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0741 0.00329 -0.01297 0.00659 -0.01945 C 0.00868 -0.02824 0.01232 -0.03148 0.01788 -0.03658 C 0.01892 -0.03866 0.01944 -0.04167 0.021 -0.04306 C 0.02222 -0.04422 0.03593 -0.04977 0.03871 -0.05162 C 0.04618 -0.05093 0.05399 -0.05162 0.06128 -0.04954 C 0.06961 -0.04722 0.07378 -0.02871 0.07916 -0.02153 C 0.08368 -0.00903 0.09132 0.00278 0.1 0.01065 C 0.10972 0.00995 0.11961 0.01088 0.12916 0.00856 C 0.13298 0.00764 0.13507 0.00162 0.13871 0 C 0.14218 -0.00926 0.14652 -0.01343 0.14843 -0.02361 C 0.14791 -0.03287 0.14895 -0.0426 0.14687 -0.05162 C 0.146 -0.0551 0.14201 -0.0551 0.14045 -0.0581 C 0.13923 -0.06042 0.13993 -0.06412 0.13871 -0.06667 C 0.13559 -0.07338 0.12864 -0.08241 0.1243 -0.0882 C 0.1217 -0.09908 0.11684 -0.1081 0.11302 -0.11829 C 0.10538 -0.16551 0.1092 -0.19838 0.14357 -0.21088 C 0.16007 -0.225 0.1842 -0.20996 0.19843 -0.1956 C 0.20034 -0.18797 0.20382 -0.18172 0.20659 -0.17431 C 0.20989 -0.15556 0.21562 -0.14236 0.2243 -0.12685 C 0.22708 -0.12199 0.22882 -0.11574 0.23229 -0.11181 C 0.24236 -0.1007 0.26423 -0.09815 0.27586 -0.09676 C 0.3085 -0.09931 0.29774 -0.09746 0.31944 -0.10764 C 0.3243 -0.11389 0.32691 -0.11829 0.32916 -0.12685 C 0.33298 -0.1581 0.33645 -0.18889 0.34201 -0.21945 C 0.3427 -0.22292 0.34253 -0.22685 0.34357 -0.2301 C 0.34548 -0.23565 0.34895 -0.24028 0.35173 -0.24514 C 0.36145 -0.26227 0.36944 -0.27732 0.38229 -0.29028 C 0.38854 -0.29653 0.39618 -0.30023 0.40173 -0.30764 C 0.40902 -0.31736 0.41232 -0.32593 0.42586 -0.32685 C 0.43559 -0.32755 0.44514 -0.32824 0.45486 -0.32894 C 0.46649 -0.33426 0.4618 -0.33079 0.46944 -0.33773 C 0.47152 -0.3419 0.47465 -0.3456 0.47586 -0.35047 C 0.4776 -0.35787 0.47621 -0.35533 0.47916 -0.35926 E">
                                      <p:cBhvr>
                                        <p:cTn id="12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203640" y="549360"/>
            <a:ext cx="26636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Вес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732480"/>
            <a:ext cx="45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6269a"/>
                </a:solidFill>
                <a:latin typeface="Monotype Corsiva"/>
              </a:rPr>
              <a:t>Зелень нивы, рощи лепет,</a:t>
            </a:r>
            <a:br>
              <a:rPr sz="2000"/>
            </a:br>
            <a:r>
              <a:rPr b="1" i="1" lang="en-US" sz="2000" spc="-1" strike="noStrike">
                <a:solidFill>
                  <a:srgbClr val="26269a"/>
                </a:solidFill>
                <a:latin typeface="Monotype Corsiva"/>
              </a:rPr>
              <a:t>В небе жаворонка трепет,</a:t>
            </a:r>
            <a:br>
              <a:rPr sz="2000"/>
            </a:br>
            <a:r>
              <a:rPr b="1" i="1" lang="en-US" sz="2000" spc="-1" strike="noStrike">
                <a:solidFill>
                  <a:srgbClr val="26269a"/>
                </a:solidFill>
                <a:latin typeface="Monotype Corsiva"/>
              </a:rPr>
              <a:t>Теплый дождь, сверканье вод,-</a:t>
            </a:r>
            <a:br>
              <a:rPr sz="2000"/>
            </a:br>
            <a:r>
              <a:rPr b="1" i="1" lang="en-US" sz="2000" spc="-1" strike="noStrike">
                <a:solidFill>
                  <a:srgbClr val="26269a"/>
                </a:solidFill>
                <a:latin typeface="Monotype Corsiva"/>
              </a:rPr>
              <a:t>Вас назвавши, что прибавить?</a:t>
            </a:r>
            <a:br>
              <a:rPr sz="2000"/>
            </a:br>
            <a:r>
              <a:rPr b="1" i="1" lang="en-US" sz="2000" spc="-1" strike="noStrike">
                <a:solidFill>
                  <a:srgbClr val="26269a"/>
                </a:solidFill>
                <a:latin typeface="Monotype Corsiva"/>
              </a:rPr>
              <a:t>Чем иным тебя прославить,</a:t>
            </a:r>
            <a:br>
              <a:rPr sz="2000"/>
            </a:br>
            <a:r>
              <a:rPr b="1" i="1" lang="en-US" sz="2000" spc="-1" strike="noStrike">
                <a:solidFill>
                  <a:srgbClr val="26269a"/>
                </a:solidFill>
                <a:latin typeface="Monotype Corsiva"/>
              </a:rPr>
              <a:t>Жизнь души, весны приход?</a:t>
            </a:r>
            <a:br>
              <a:rPr sz="2000"/>
            </a:br>
            <a:r>
              <a:rPr b="1" i="1" lang="en-US" sz="2000" spc="-1" strike="noStrike">
                <a:solidFill>
                  <a:srgbClr val="26269a"/>
                </a:solidFill>
                <a:latin typeface="Monotype Corsiva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5364000" y="0"/>
            <a:ext cx="216072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Лет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58080"/>
            <a:ext cx="273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 Ключ, звенящий в тишине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осны, клёны и дубы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Землянику и грибы!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одарю тебе кyкyшкy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Чтобы, выйдя на опyшкy,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00" y="0"/>
            <a:ext cx="376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- Что ты мне подаришь, лето?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- Много солнечного света!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В небе pадyгy-дyгy!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И ромашки на лyгy!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- Что ещё подаришь мне?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3880" y="2276640"/>
            <a:ext cx="323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Ты погpомче кpикнyл ей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"Погадай мне поскорей!"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И она тебе в ответ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Нагадала много лет!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03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537080" cy="3500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395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3132000" y="0"/>
            <a:ext cx="26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сень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8" name=""/>
          <p:cNvSpPr/>
          <p:nvPr/>
        </p:nvSpPr>
        <p:spPr>
          <a:xfrm>
            <a:off x="4715640" y="4937760"/>
            <a:ext cx="41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howcard Gothic"/>
              </a:rPr>
              <a:t>Под ногами первый лёд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Showcard Gothic"/>
              </a:rPr>
              <a:t>Крошится, ломается.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Showcard Gothic"/>
              </a:rPr>
              <a:t>Воробей в саду вздохнёт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Showcard Gothic"/>
              </a:rPr>
              <a:t>А запеть –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Showcard Gothic"/>
              </a:rPr>
              <a:t>Стесняе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7080" y="4005360"/>
            <a:ext cx="410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howcard Gothic"/>
              </a:rPr>
              <a:t>Заглянула осень в сад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Showcard Gothic"/>
              </a:rPr>
              <a:t>Птицы улетели.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Showcard Gothic"/>
              </a:rPr>
              <a:t>За окном с утра шуршат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Showcard Gothic"/>
              </a:rPr>
              <a:t>Жёлтые метел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91,-3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835280" y="2781360"/>
            <a:ext cx="55753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99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Thank you!!!</a:t>
            </a:r>
            <a:endParaRPr b="0" lang="en-US" sz="1800" spc="1" strike="noStrike">
              <a:ln w="28440">
                <a:solidFill>
                  <a:srgbClr val="3399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checker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7:00:50Z</dcterms:created>
  <dc:creator>Игорь Евгеньевич</dc:creator>
  <dc:description/>
  <dc:language>en-US</dc:language>
  <cp:lastModifiedBy>Владимир Евсюков</cp:lastModifiedBy>
  <dcterms:modified xsi:type="dcterms:W3CDTF">2008-05-06T09:02:09Z</dcterms:modified>
  <cp:revision>8</cp:revision>
  <dc:subject/>
  <dc:title>Времена года</dc:title>
</cp:coreProperties>
</file>